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71B9-7F61-4AB4-AC36-550139C74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FA85-4876-4BCA-96A0-5FB7CCDCF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F214-8C6A-492C-A842-C24B5B8A3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AD88-6A0E-4F81-82D7-29E946DFD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5363-F342-43FB-86E1-DA9BE0C9D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8AA0-2A6B-4D43-9AFA-647143A68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CDEC-B253-47D8-934C-BE651DCA9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17D2-F418-4A49-B02C-3DC56F465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ED06-27A6-450C-8BFC-9C19334E8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72C3-8346-4D86-8EEC-EC40C2BD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5D0D-CBCA-4453-8A20-4FE5F1F5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F17D-A2C6-4AFA-BFDA-4A800723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3760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C37E4-7326-4666-AA48-2FF3A87D36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3760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Скругленный прямоугольник 9"/>
          <p:cNvSpPr/>
          <p:nvPr/>
        </p:nvSpPr>
        <p:spPr>
          <a:xfrm>
            <a:off x="428760" y="642960"/>
            <a:ext cx="8429400" cy="3357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3214800" y="4786200"/>
            <a:ext cx="5688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cc00"/>
                </a:solidFill>
                <a:latin typeface="Arial"/>
                <a:ea typeface="Arial"/>
              </a:rPr>
              <a:t>ПОПОВ Сергей Аркадьевич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начальник отдела штаба Всероссийской службы медицины катастро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642960" y="785880"/>
            <a:ext cx="7931160" cy="30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О  ПОРЯДКЕ  ФОРМ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ГОДОВЫХ  СТАТИСТИЧЕСКИ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ОТЧЕТОВ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 СЛУЖ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3366"/>
                </a:solidFill>
                <a:latin typeface="Arial"/>
              </a:rPr>
              <a:t>   </a:t>
            </a:r>
            <a:br>
              <a:rPr sz="3200"/>
            </a:b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МЕДИЦИНЫ   КАТАСТРО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arcdm"/>
          <p:cNvPicPr/>
          <p:nvPr/>
        </p:nvPicPr>
        <p:blipFill>
          <a:blip r:embed="rId1"/>
          <a:stretch/>
        </p:blipFill>
        <p:spPr>
          <a:xfrm>
            <a:off x="357120" y="5572080"/>
            <a:ext cx="89712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3760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месте с формами 55, 56 и пояснительной запиской к годовому отчету представить на бумажном носителе таблицы, относящиеся к пояснительной записке 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-324000" y="1916280"/>
            <a:ext cx="8641080" cy="38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1. Сведения о проведенных учениях, тренировках и занятиях за 2014 год;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. Сведения об аттестационной работе за 2014 год;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3. Сведения о работе лаборатории психофизиологического обеспечения 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за 2014 год;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ведения о работе подразделений по обучению за 2014 год;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ведения о научно-исследовательской работе за 2014 год;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ведения об исходах лечения пораженных при чрезвычайных ситуациях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медицинских организациях за 2014 г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3760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58560" y="1412640"/>
            <a:ext cx="597708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33711"/>
                </a:solidFill>
                <a:latin typeface="Arial"/>
              </a:rPr>
              <a:t>Благодарю</a:t>
            </a:r>
            <a:br>
              <a:rPr sz="4400"/>
            </a:br>
            <a:r>
              <a:rPr b="0" i="1" lang="en-US" sz="4400" spc="-1" strike="noStrike">
                <a:solidFill>
                  <a:srgbClr val="f33711"/>
                </a:solidFill>
                <a:latin typeface="Arial"/>
              </a:rPr>
              <a:t>за </a:t>
            </a:r>
            <a:br>
              <a:rPr sz="4400"/>
            </a:br>
            <a:r>
              <a:rPr b="0" i="1" lang="en-US" sz="4400" spc="-1" strike="noStrike">
                <a:solidFill>
                  <a:srgbClr val="f33711"/>
                </a:solidFill>
                <a:latin typeface="Arial"/>
              </a:rPr>
              <a:t>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108000" y="5445000"/>
            <a:ext cx="568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cc00"/>
                </a:solidFill>
                <a:latin typeface="Arial"/>
                <a:ea typeface="Arial"/>
              </a:rPr>
              <a:t>ФГБУ ВЦМК «ЗАЩИТА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Отдел статистики и информационно-аналитической обработки Штаба ВСМ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Тел. 8 (499) 190-46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3760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428760" y="785880"/>
            <a:ext cx="8286480" cy="47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РИКАЗ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от  03  февраля  2005 г.  №  1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«О статистических формах службы медицины катастроф Министерства здравоохранения и социального развития Российской Федераци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3760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imes New Roman"/>
              </a:rPr>
              <a:t>РАСПРЕДЕЛЕНИЕ ЧРЕЗВЫЧАЙНЫХ СИТУАЦИЙ ПО ЧИСЛУ</a:t>
            </a:r>
            <a:r>
              <a:rPr b="1" lang="en-US" sz="18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c000"/>
                </a:solidFill>
                <a:latin typeface="Times New Roman"/>
              </a:rPr>
              <a:t>ПОСТРАДАВШИ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395280" y="1125360"/>
          <a:ext cx="8640720" cy="4908600"/>
        </p:xfrm>
        <a:graphic>
          <a:graphicData uri="http://schemas.openxmlformats.org/drawingml/2006/table">
            <a:tbl>
              <a:tblPr/>
              <a:tblGrid>
                <a:gridCol w="1295280"/>
                <a:gridCol w="432000"/>
                <a:gridCol w="360360"/>
                <a:gridCol w="360360"/>
                <a:gridCol w="360360"/>
                <a:gridCol w="358560"/>
                <a:gridCol w="385920"/>
                <a:gridCol w="406440"/>
                <a:gridCol w="344520"/>
                <a:gridCol w="419040"/>
                <a:gridCol w="331920"/>
                <a:gridCol w="417240"/>
                <a:gridCol w="360360"/>
                <a:gridCol w="432000"/>
                <a:gridCol w="352440"/>
                <a:gridCol w="439560"/>
                <a:gridCol w="360360"/>
                <a:gridCol w="432000"/>
                <a:gridCol w="358560"/>
                <a:gridCol w="433440"/>
              </a:tblGrid>
              <a:tr h="4572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резвычайной ситу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0" rIns="0" tIns="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№    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исло ЧС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исл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страдав-ших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гибши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 общего числа  Ч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том числе де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том числе де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ез пост-радав-ши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окальн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1-10 пострадав-ших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стн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11-5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страдав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их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рриториальн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51-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страдав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их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гиональн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51-500 пострадавших, 2 субъекта Российской Федерации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едеральн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свыше 500 пострадав-ших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ансгранич- н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исло Ч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исло Ч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исло пострадав-ши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исло Ч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исло постра-давши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исло Ч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исло постра-давши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исло Ч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исло постра-давши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исло Ч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исло постра-давши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исло Ч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исло постра-давши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90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1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хногенные –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1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1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иродные-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1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1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иолого-социальные -всег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1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1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оциальные-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1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1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чие Ч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TextBox 3"/>
          <p:cNvSpPr/>
          <p:nvPr/>
        </p:nvSpPr>
        <p:spPr>
          <a:xfrm>
            <a:off x="324000" y="76500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01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3760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000"/>
                </a:solidFill>
                <a:latin typeface="Times New Roman"/>
              </a:rPr>
              <a:t>РАСПРЕДЕЛЕНИЕ ПОРАЖЕННЫХ В ЧРЕЗВЫЧЫЙНЫХ СИТУАЦИЯХ ПО ТЯЖЕСТИ ПОРАЖЕНИЯ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324000" y="83664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4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79280" y="1268280"/>
          <a:ext cx="8785440" cy="5185080"/>
        </p:xfrm>
        <a:graphic>
          <a:graphicData uri="http://schemas.openxmlformats.org/drawingml/2006/table">
            <a:tbl>
              <a:tblPr/>
              <a:tblGrid>
                <a:gridCol w="2114640"/>
                <a:gridCol w="291960"/>
                <a:gridCol w="509760"/>
                <a:gridCol w="795240"/>
                <a:gridCol w="393840"/>
                <a:gridCol w="863640"/>
                <a:gridCol w="431640"/>
                <a:gridCol w="792360"/>
                <a:gridCol w="431640"/>
                <a:gridCol w="863640"/>
                <a:gridCol w="433440"/>
                <a:gridCol w="863640"/>
              </a:tblGrid>
              <a:tr h="4590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Ч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раженны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том числе по степени тяжести пораж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том числ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айн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яжел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яжел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ней тяже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ег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9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том числе де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том числе де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том чис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том чис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хногенные –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Природные –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- из них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иолого-социальные всег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в том числе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Социальные – всего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- </a:t>
                      </a: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из них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Прочие Ч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3760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Times New Roman"/>
              </a:rPr>
              <a:t>МЕДИЦИНСКАЯ ПОМОЩЬ ПОРАЖЕННЫМ В ЧРЕЗВЫЧАЙНЫХ СИТУАЦИЯ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324000" y="83664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85840" y="-183848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85840" y="-184071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85840" y="-183848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79800" y="-184071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50920" y="1268280"/>
          <a:ext cx="8640720" cy="5208840"/>
        </p:xfrm>
        <a:graphic>
          <a:graphicData uri="http://schemas.openxmlformats.org/drawingml/2006/table">
            <a:tbl>
              <a:tblPr/>
              <a:tblGrid>
                <a:gridCol w="1850760"/>
                <a:gridCol w="239760"/>
                <a:gridCol w="271440"/>
                <a:gridCol w="314640"/>
                <a:gridCol w="264960"/>
                <a:gridCol w="311040"/>
                <a:gridCol w="287280"/>
                <a:gridCol w="360360"/>
                <a:gridCol w="287640"/>
                <a:gridCol w="288720"/>
                <a:gridCol w="287280"/>
                <a:gridCol w="289080"/>
                <a:gridCol w="287280"/>
                <a:gridCol w="360360"/>
                <a:gridCol w="287280"/>
                <a:gridCol w="289080"/>
                <a:gridCol w="287280"/>
                <a:gridCol w="289080"/>
                <a:gridCol w="287280"/>
                <a:gridCol w="288720"/>
                <a:gridCol w="287280"/>
                <a:gridCol w="276480"/>
                <a:gridCol w="287280"/>
                <a:gridCol w="360360"/>
              </a:tblGrid>
              <a:tr h="13752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Ч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№    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ражен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ых, которым оказана медицин-ская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мощ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том числе по видам медицинской помощ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 числа пораженн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спитали-зирован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вакуиро-ван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мерл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вая</a:t>
                      </a: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мощ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ервичная медико-санитарна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пециализированная, в т.ч. высокотехнологична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корая, в т.ч. скорая специализированна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 начала эвакуации из очаг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ходе эвакуации до ЛП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П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69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том числе дет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том числе дет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том числе дет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том числе дет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том числе дет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том числе дет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том числе дет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том числе дет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том числе дет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том числе дет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- из них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хногенные –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Природные –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- из них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иолого-социаль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в том числе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Социальные –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Прочие Ч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5435640" y="1830240"/>
            <a:ext cx="431640" cy="42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33711"/>
                </a:solidFill>
                <a:latin typeface="Times New Roman"/>
              </a:rPr>
              <a:t>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33711"/>
                </a:solidFill>
                <a:latin typeface="Times New Roman"/>
              </a:rPr>
              <a:t>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33711"/>
                </a:solidFill>
                <a:latin typeface="Times New Roman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33711"/>
                </a:solidFill>
                <a:latin typeface="Times New Roman"/>
              </a:rPr>
              <a:t>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33711"/>
                </a:solidFill>
                <a:latin typeface="Times New Roman"/>
              </a:rPr>
              <a:t>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3711"/>
                </a:solidFill>
                <a:latin typeface="Times New Roman"/>
              </a:rPr>
              <a:t>13</a:t>
            </a:r>
            <a:r>
              <a:rPr b="0" lang="en-US" sz="1600" spc="-1" strike="noStrike">
                <a:solidFill>
                  <a:srgbClr val="f33711"/>
                </a:solidFill>
                <a:latin typeface="Times New Roman"/>
              </a:rPr>
              <a:t> и </a:t>
            </a:r>
            <a:r>
              <a:rPr b="1" lang="en-US" sz="1800" spc="-1" strike="noStrike">
                <a:solidFill>
                  <a:srgbClr val="f33711"/>
                </a:solidFill>
                <a:latin typeface="Times New Roman"/>
              </a:rPr>
              <a:t>14</a:t>
            </a:r>
            <a:r>
              <a:rPr b="0" lang="en-US" sz="1600" spc="-1" strike="noStrike">
                <a:solidFill>
                  <a:srgbClr val="f33711"/>
                </a:solidFill>
                <a:latin typeface="Times New Roman"/>
              </a:rPr>
              <a:t> не з  а п о л н я  т  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3760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1"/>
          <p:cNvSpPr/>
          <p:nvPr/>
        </p:nvSpPr>
        <p:spPr>
          <a:xfrm>
            <a:off x="357120" y="18900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Times New Roman"/>
              </a:rPr>
              <a:t>ИСПОЛЬЗОВАНИЕ КОЕЧНОГО ФОНДА МЕДИЦИНСКИХ УЧРЕЖДЕНИЙ В ЧРЕЗВЫЧАЙНЫХ СИТУАЦ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50920" y="1052640"/>
          <a:ext cx="8785080" cy="5640120"/>
        </p:xfrm>
        <a:graphic>
          <a:graphicData uri="http://schemas.openxmlformats.org/drawingml/2006/table">
            <a:tbl>
              <a:tblPr/>
              <a:tblGrid>
                <a:gridCol w="1873080"/>
                <a:gridCol w="360360"/>
                <a:gridCol w="1224000"/>
                <a:gridCol w="647640"/>
                <a:gridCol w="792360"/>
                <a:gridCol w="647640"/>
                <a:gridCol w="792000"/>
                <a:gridCol w="648000"/>
                <a:gridCol w="720720"/>
                <a:gridCol w="1079280"/>
              </a:tblGrid>
              <a:tr h="487080">
                <a:tc rowSpan="2"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ециализация ко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исл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редне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одовы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ек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вернут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Ч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ступило боль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писано боль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ведено пораженными койко-дней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1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т.ч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т.ч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т.ч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680">
                <a:tc rowSpan="2">
                  <a:txBody>
                    <a:bodyPr lIns="42840" rIns="42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ирургические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ля взросл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2840" rIns="42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2840" rIns="42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жогов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2840" rIns="42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оксикологичес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680">
                <a:tc rowSpan="2">
                  <a:txBody>
                    <a:bodyPr lIns="42840" rIns="42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чи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ля взросл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2840" rIns="42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42840" rIns="42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еанимации и интенсивной терап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TextBox 3"/>
          <p:cNvSpPr/>
          <p:nvPr/>
        </p:nvSpPr>
        <p:spPr>
          <a:xfrm>
            <a:off x="324000" y="76500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3760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857160" y="201600"/>
            <a:ext cx="753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000"/>
                </a:solidFill>
                <a:latin typeface="Arial"/>
              </a:rPr>
              <a:t>Расчет среднегодовых коек, развернутых в Ч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000"/>
                </a:solidFill>
                <a:latin typeface="Arial"/>
              </a:rPr>
              <a:t>(55 форма, табл. 300 гр. 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79280" y="2781360"/>
          <a:ext cx="8637840" cy="669960"/>
        </p:xfrm>
        <a:graphic>
          <a:graphicData uri="http://schemas.openxmlformats.org/drawingml/2006/table">
            <a:tbl>
              <a:tblPr/>
              <a:tblGrid>
                <a:gridCol w="4464000"/>
                <a:gridCol w="360360"/>
                <a:gridCol w="648000"/>
                <a:gridCol w="504720"/>
                <a:gridCol w="1008000"/>
                <a:gridCol w="287280"/>
                <a:gridCol w="1365480"/>
              </a:tblGrid>
              <a:tr h="335520">
                <a:tc>
                  <a:txBody>
                    <a:bodyPr lIns="43920" rIns="439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00"/>
                          </a:solidFill>
                          <a:latin typeface="Calibri"/>
                          <a:ea typeface="Times New Roman"/>
                        </a:rPr>
                        <a:t>8 коек х 3 дня  + 10 коек х 2 дн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00"/>
                          </a:solidFill>
                          <a:latin typeface="Calibri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920" rIns="439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00"/>
                          </a:solidFill>
                          <a:latin typeface="Calibri"/>
                          <a:ea typeface="Times New Roman"/>
                        </a:rPr>
                        <a:t>4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ffff00"/>
                          </a:solidFill>
                          <a:latin typeface="Calibri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00"/>
                          </a:solidFill>
                          <a:latin typeface="Calibri"/>
                          <a:ea typeface="Times New Roman"/>
                        </a:rPr>
                        <a:t>1,4</a:t>
                      </a:r>
                      <a:r>
                        <a:rPr b="1" lang="en-US" sz="2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200" spc="-1" strike="noStrike">
                          <a:solidFill>
                            <a:srgbClr val="ffff00"/>
                          </a:solidFill>
                          <a:latin typeface="Calibri"/>
                          <a:ea typeface="Times New Roman"/>
                        </a:rPr>
                        <a:t> 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00"/>
                          </a:solidFill>
                          <a:latin typeface="Calibri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00"/>
                          </a:solidFill>
                          <a:latin typeface="Calibri"/>
                          <a:ea typeface="Times New Roman"/>
                        </a:rPr>
                        <a:t>1,4 кой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00"/>
                          </a:solidFill>
                          <a:latin typeface="Calibri"/>
                          <a:ea typeface="Times New Roman"/>
                        </a:rPr>
                        <a:t>                       </a:t>
                      </a:r>
                      <a:r>
                        <a:rPr b="1" lang="en-US" sz="2200" spc="-1" strike="noStrike">
                          <a:solidFill>
                            <a:srgbClr val="ffff00"/>
                          </a:solidFill>
                          <a:latin typeface="Calibri"/>
                          <a:ea typeface="Times New Roman"/>
                        </a:rPr>
                        <a:t>31 ден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00"/>
                          </a:solidFill>
                          <a:latin typeface="Calibri"/>
                          <a:ea typeface="Times New Roman"/>
                        </a:rPr>
                        <a:t>3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324000" y="4653000"/>
          <a:ext cx="7993080" cy="1008000"/>
        </p:xfrm>
        <a:graphic>
          <a:graphicData uri="http://schemas.openxmlformats.org/drawingml/2006/table">
            <a:tbl>
              <a:tblPr/>
              <a:tblGrid>
                <a:gridCol w="2850840"/>
                <a:gridCol w="460440"/>
                <a:gridCol w="594000"/>
                <a:gridCol w="388800"/>
                <a:gridCol w="1825560"/>
                <a:gridCol w="255600"/>
                <a:gridCol w="1617840"/>
              </a:tblGrid>
              <a:tr h="505080">
                <a:tc>
                  <a:txBody>
                    <a:bodyPr lIns="53280" rIns="53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00"/>
                          </a:solidFill>
                          <a:latin typeface="Calibri"/>
                          <a:ea typeface="Times New Roman"/>
                        </a:rPr>
                        <a:t>1,4  + 1,5  + 0,5 + 2,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00"/>
                          </a:solidFill>
                          <a:latin typeface="Calibri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3280" rIns="53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00"/>
                          </a:solidFill>
                          <a:latin typeface="Calibri"/>
                          <a:ea typeface="Times New Roman"/>
                        </a:rPr>
                        <a:t>5,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ffff00"/>
                          </a:solidFill>
                          <a:latin typeface="Calibri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US" sz="2200" spc="-1" strike="noStrike">
                          <a:solidFill>
                            <a:srgbClr val="ffff00"/>
                          </a:solidFill>
                          <a:latin typeface="Calibri"/>
                          <a:ea typeface="Times New Roman"/>
                        </a:rPr>
                        <a:t>0,48 койки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00"/>
                          </a:solidFill>
                          <a:latin typeface="Calibri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33711"/>
                          </a:solidFill>
                          <a:latin typeface="Calibri"/>
                          <a:ea typeface="Times New Roman"/>
                        </a:rPr>
                        <a:t>0,5 кой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00"/>
                          </a:solidFill>
                          <a:latin typeface="Calibri"/>
                          <a:ea typeface="Times New Roman"/>
                        </a:rPr>
                        <a:t>                </a:t>
                      </a:r>
                      <a:r>
                        <a:rPr b="1" lang="en-US" sz="2200" spc="-1" strike="noStrike">
                          <a:solidFill>
                            <a:srgbClr val="ffff00"/>
                          </a:solidFill>
                          <a:latin typeface="Calibri"/>
                          <a:ea typeface="Times New Roman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280" marR="53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00"/>
                          </a:solidFill>
                          <a:latin typeface="Calibri"/>
                          <a:ea typeface="Times New Roman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280" marR="53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6" name="Rectangle 1"/>
          <p:cNvSpPr/>
          <p:nvPr/>
        </p:nvSpPr>
        <p:spPr>
          <a:xfrm>
            <a:off x="395280" y="979920"/>
            <a:ext cx="8143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1. 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 Расчет среднемесячных кое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В январе было развернуто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1 января – 8 коек             8 января – 10 ко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2 января – 8 коек             9 января – 10 ко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3 января – 8 ко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395280" y="3573360"/>
            <a:ext cx="8501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2. 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 Расчет среднегод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ых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 ко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В январе – 1,4 койки, в марте – 1,5 койки, в сентябре - 0,5 койки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в декабре – 2,4 кой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3760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Times New Roman"/>
              </a:rPr>
              <a:t>РАСПРЕДЕЛЕНИЕ МЕДИЦИНСКИХ И ФАРМАЦЕВТИЧЕСКИХ КАДРОВ СЛУЖБЫ МЕДИЦИНЫ КАТАСТРОФ ПО КВАЛИФИКАЦИОННЫМ КАТЕГОРИЯ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4941720" y="-9968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95280" y="1413000"/>
          <a:ext cx="8043840" cy="4917960"/>
        </p:xfrm>
        <a:graphic>
          <a:graphicData uri="http://schemas.openxmlformats.org/drawingml/2006/table">
            <a:tbl>
              <a:tblPr/>
              <a:tblGrid>
                <a:gridCol w="2949480"/>
                <a:gridCol w="292320"/>
                <a:gridCol w="1425600"/>
                <a:gridCol w="720720"/>
                <a:gridCol w="718920"/>
                <a:gridCol w="720720"/>
                <a:gridCol w="1216080"/>
              </a:tblGrid>
              <a:tr h="218880">
                <a:tc rowSpan="3"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дицинские 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армацевтические кад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ециалистов (штатных 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нештатных)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действованных в службе медицины катастроф -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 общего числа специалистов (гр. 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8000" rIns="18000" tIns="18000" bIns="18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мею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ертифика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ециалис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ачи -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в том числе по  специальности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визо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ний медицин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сонал –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в том числе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армацев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ладшие медицинские сестры по уходу за больны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TextBox 3"/>
          <p:cNvSpPr/>
          <p:nvPr/>
        </p:nvSpPr>
        <p:spPr>
          <a:xfrm>
            <a:off x="324000" y="98100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05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75e"/>
            </a:gs>
            <a:gs pos="100000">
              <a:srgbClr val="3760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Times New Roman"/>
              </a:rPr>
              <a:t>ПОВЫШЕНИЕ КВАЛИФИКАЦИИ СПЕЦИАЛИСТОВ, ЗАДЕЙСТВОВАННЫХ В СЛУЖБЕ МЕДИЦИНЫ КАТАСТРОФ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324000" y="83664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06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85840" y="-183848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85840" y="-184071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085840" y="-183848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79800" y="-184071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9280" y="-1152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-1139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84040" y="1413000"/>
          <a:ext cx="8859600" cy="4535280"/>
        </p:xfrm>
        <a:graphic>
          <a:graphicData uri="http://schemas.openxmlformats.org/drawingml/2006/table">
            <a:tbl>
              <a:tblPr/>
              <a:tblGrid>
                <a:gridCol w="1476360"/>
                <a:gridCol w="217440"/>
                <a:gridCol w="614160"/>
                <a:gridCol w="358920"/>
                <a:gridCol w="504720"/>
                <a:gridCol w="503280"/>
                <a:gridCol w="792360"/>
                <a:gridCol w="720720"/>
                <a:gridCol w="718920"/>
                <a:gridCol w="433440"/>
                <a:gridCol w="719280"/>
                <a:gridCol w="792000"/>
                <a:gridCol w="576360"/>
                <a:gridCol w="431640"/>
              </a:tblGrid>
              <a:tr h="22464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ециаль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 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ециалистов  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1"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 них прошли за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следипломное обуч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чения и сборы по медицине катастро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учение по медицине катастроф (из гр. 5,6,7,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ециа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за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ию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щее усовер-шенств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матическое усовершенств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динатур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андно- штабные учения и трениров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актико-специальн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ч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чебно-методи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еск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бо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ч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ачи -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в том числе п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ециальности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визо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ний медицинский персонал –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армацев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ладшие медицинские сестры по уходу за больны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7T11:17:43Z</dcterms:created>
  <dc:creator>Videomaster</dc:creator>
  <dc:description/>
  <dc:language>en-US</dc:language>
  <cp:lastModifiedBy>Магазейщикова Наталья Генедьевна</cp:lastModifiedBy>
  <dcterms:modified xsi:type="dcterms:W3CDTF">2014-11-25T08:04:00Z</dcterms:modified>
  <cp:revision>141</cp:revision>
  <dc:subject/>
  <dc:title>Слайд 1</dc:title>
</cp:coreProperties>
</file>