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F55D-537C-415A-954F-F31DB5E48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7A42-2898-47B7-9DDC-737D92D7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01F-9B87-4267-AF3C-1144AE74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130-6F0E-45F4-B17C-FBA219F0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E896-71F2-42D1-98A5-9BA4A55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C820-0545-41CE-AD4E-7E002517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DAC-A563-4967-9CFF-BD919EF1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F8A3-6AB5-446F-A858-0524A9E1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FA8-2C34-4B82-B4AE-FC16A483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10B-E634-4ACF-B209-ECD614F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6E1-08BC-45D9-91C0-4494311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6AEF-E684-437B-A8C8-867C8B20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D7E7-71F9-4AB6-832F-B8CEBCC6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cology.ru/service/statistics/malignant_tumors/" TargetMode="External"/><Relationship Id="rId3" Type="http://schemas.openxmlformats.org/officeDocument/2006/relationships/hyperlink" Target="http://www.oncology.ru/service/statistics/malignant_tumors/" TargetMode="External"/><Relationship Id="rId4" Type="http://schemas.openxmlformats.org/officeDocument/2006/relationships/hyperlink" Target="http://www.oncology.ru/service/statistics/malignant_tumors/" TargetMode="External"/><Relationship Id="rId5" Type="http://schemas.openxmlformats.org/officeDocument/2006/relationships/hyperlink" Target="http://www.oncology.ru/service/statistics/malignant_tumors/" TargetMode="External"/><Relationship Id="rId6" Type="http://schemas.openxmlformats.org/officeDocument/2006/relationships/hyperlink" Target="http://www.oncology.ru/service/statistics/malignant_tumors/" TargetMode="External"/><Relationship Id="rId7" Type="http://schemas.openxmlformats.org/officeDocument/2006/relationships/hyperlink" Target="http://www.oncology.ru/service/statistics/malignant_tumors/" TargetMode="External"/><Relationship Id="rId8" Type="http://schemas.openxmlformats.org/officeDocument/2006/relationships/hyperlink" Target="http://www.oncology.ru/service/statistics/malignant_tumors/" TargetMode="External"/><Relationship Id="rId9" Type="http://schemas.openxmlformats.org/officeDocument/2006/relationships/hyperlink" Target="http://www.oncology.ru/service/statistics/malignant_tumors/" TargetMode="External"/><Relationship Id="rId10" Type="http://schemas.openxmlformats.org/officeDocument/2006/relationships/hyperlink" Target="http://www.oncology.ru/service/statistics/malignant_tumors/" TargetMode="External"/><Relationship Id="rId11" Type="http://schemas.openxmlformats.org/officeDocument/2006/relationships/hyperlink" Target="http://www.oncology.ru/service/statistics/malignant_tumors/" TargetMode="External"/><Relationship Id="rId12" Type="http://schemas.openxmlformats.org/officeDocument/2006/relationships/hyperlink" Target="http://www.cancer-reg.ru/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57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Российский центр информационных технологий и эпидемиологических исследований в области онкологии  в составе МНИОИ им. П.А. Герц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Петрова Галина Вениами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2205000"/>
            <a:ext cx="792144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660066"/>
                </a:solidFill>
                <a:latin typeface="Tahoma"/>
              </a:rPr>
              <a:t>ОЦЕНКА КАЧЕСТВА ОТЧЕТНОЙ ДОКУМЕНТАЦИИ ПО ОНКОЛОГИИ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660066"/>
                </a:solidFill>
                <a:latin typeface="Tahoma"/>
              </a:rPr>
              <a:t>СТАТИСТИЧЕСКИЙ УЧЕТ И ОТЧЕТНОСТЬ </a:t>
            </a:r>
            <a:br>
              <a:rPr sz="2600"/>
            </a:br>
            <a:r>
              <a:rPr b="1" i="1" lang="en-US" sz="2600" spc="-1" strike="noStrike">
                <a:solidFill>
                  <a:srgbClr val="660066"/>
                </a:solidFill>
                <a:latin typeface="Tahoma"/>
              </a:rPr>
              <a:t>В УЧРЕЖДЕНИЯХ ОНКОЛОГИЧЕСКОГО ПРОФИЛЯ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81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000066"/>
                </a:solidFill>
                <a:uFillTx/>
                <a:latin typeface="Tahoma"/>
              </a:rPr>
              <a:t>Лейкемии 2013 г. </a:t>
            </a:r>
            <a:br>
              <a:rPr sz="2100"/>
            </a:b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ПОКАЗАТЕЛЬ МОРФОЛОГИЧЕСКОГО ПОДТВЕРЖДЕНИЯ ДИАГНОЗА, %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организационный недоу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9280" y="1989000"/>
          <a:ext cx="8280360" cy="2087640"/>
        </p:xfrm>
        <a:graphic>
          <a:graphicData uri="http://schemas.openxmlformats.org/drawingml/2006/table">
            <a:tbl>
              <a:tblPr/>
              <a:tblGrid>
                <a:gridCol w="3168720"/>
                <a:gridCol w="936720"/>
                <a:gridCol w="3166920"/>
                <a:gridCol w="100800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Ты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Бур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Ингуше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ермский кр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укотский авт. окру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рл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елгород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лмык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о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8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емеровская об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179280" y="472428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ahoma"/>
              </a:rPr>
              <a:t>Россия – 98,3%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(2012 г. - 95,2%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Tahoma"/>
              </a:rPr>
              <a:t>в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57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</a:rPr>
              <a:t> регионах –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100%, </a:t>
            </a:r>
            <a:br>
              <a:rPr sz="2200"/>
            </a:br>
            <a:r>
              <a:rPr b="1" i="1" lang="en-US" sz="2200" spc="-1" strike="noStrike">
                <a:solidFill>
                  <a:srgbClr val="000066"/>
                </a:solidFill>
                <a:latin typeface="Tahoma"/>
              </a:rPr>
              <a:t>в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5 </a:t>
            </a:r>
            <a:r>
              <a:rPr b="1" i="1" lang="en-US" sz="2200" spc="-1" strike="noStrike">
                <a:solidFill>
                  <a:srgbClr val="000066"/>
                </a:solidFill>
                <a:latin typeface="Tahoma"/>
              </a:rPr>
              <a:t>регионах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200" spc="-1" strike="noStrike">
                <a:solidFill>
                  <a:srgbClr val="ff0000"/>
                </a:solidFill>
                <a:latin typeface="Tahoma"/>
              </a:rPr>
              <a:t>97% и выш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5516640"/>
            <a:ext cx="144360" cy="720720"/>
          </a:xfrm>
          <a:custGeom>
            <a:avLst/>
            <a:gdLst>
              <a:gd name="textAreaLeft" fmla="*/ 0 w 144360"/>
              <a:gd name="textAreaRight" fmla="*/ 5220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5589720"/>
            <a:ext cx="374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ahoma"/>
              </a:rPr>
              <a:t>Удовлетворите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75% </a:t>
            </a:r>
            <a:r>
              <a:rPr b="1" i="1" lang="en-US" sz="1600" spc="-1" strike="noStrike">
                <a:solidFill>
                  <a:srgbClr val="000066"/>
                </a:solidFill>
                <a:latin typeface="Tahoma"/>
              </a:rPr>
              <a:t>территор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7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ahoma"/>
              </a:rPr>
              <a:t>Проблема: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низкое качество заполнения первичных документов (неудовлетворительное тестирование БД популяционного регист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33336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ДОЛЯ ЛЕЙКЕМИЙ, РАДИКАЛЬНОЕ ЛЕЧЕНИЕ КОТОРЫХ ЗАКОНЧЕНО и БУДЕТ ПРОДОЛЖЕНО, от </a:t>
            </a:r>
            <a:br>
              <a:rPr sz="1800"/>
            </a:b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ВСЕХ ВЫЯВЛЕННЫХ ЛЕЙКЕМИЙ (БЕЗ УЧТЕННЫХ ПОСМЕРТНО), 2013 г., %</a:t>
            </a:r>
            <a:br>
              <a:rPr sz="1800"/>
            </a:br>
            <a:r>
              <a:rPr b="1" i="1" lang="en-US" sz="1600" spc="-1" strike="noStrike">
                <a:solidFill>
                  <a:srgbClr val="000066"/>
                </a:solidFill>
                <a:latin typeface="Tahoma"/>
              </a:rPr>
              <a:t>(табл.2300, стр.28, гр.4+5) / (табл.2200, стр. 28, гр.4)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*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924280"/>
            <a:ext cx="3311640" cy="916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В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 23 регионах 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данный показатель составляет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 более 90%.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2492280"/>
          <a:ext cx="4535280" cy="3554640"/>
        </p:xfrm>
        <a:graphic>
          <a:graphicData uri="http://schemas.openxmlformats.org/drawingml/2006/table">
            <a:tbl>
              <a:tblPr/>
              <a:tblGrid>
                <a:gridCol w="3384360"/>
                <a:gridCol w="1150920"/>
              </a:tblGrid>
              <a:tr h="414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ИНИМАЛЬНЫЕ ЗНАЧЕНИЯ </a:t>
                      </a:r>
                      <a:r>
                        <a:rPr b="1" lang="en-US" sz="21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(????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лтай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Хакас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лининград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лмык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5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раснодар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ом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еч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7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Башкортост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0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оскв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4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857880" y="1916280"/>
            <a:ext cx="383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РОССИЯ – 70,2%  </a:t>
            </a: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(2012 г. – 70,8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2349360"/>
            <a:ext cx="91440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592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ОБРАТИТЬ ОСОБОЕ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При формировании сводного отчета по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форме 35</a:t>
            </a:r>
            <a:r>
              <a:rPr b="1" i="1" lang="en-US" sz="2400" spc="-1" strike="noStrike">
                <a:solidFill>
                  <a:srgbClr val="000066"/>
                </a:solidFill>
                <a:latin typeface="Tahoma"/>
              </a:rPr>
              <a:t> путем суммирования данных районных отчетов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96720" y="1557360"/>
            <a:ext cx="943272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в графах 1 и 8 подтабличной строки 2110  следует отражать 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движение больных между субъектами Российской Федерации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 и не следует показывать межрайонную миграцию</a:t>
            </a:r>
            <a:br>
              <a:rPr sz="1900"/>
            </a:b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внимательно подходить к формированию 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информации по учтенным посмертно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 (графы 1-4 подтабличной строки 2120), особенно при суммировании с отчетами закрытых территор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если ведомственные больные не ставились на учет своевременно, и при формировании сводного отчета  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в первый раз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 происходит 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суммирование с ведомственными отчетами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, то контингент, состоящий на ведомственном учете  на конец предыдущего года, 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следует взять на учет как больных с ранее установленным диагнозом, 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т.е.</a:t>
            </a:r>
            <a:r>
              <a:rPr b="1" i="1" lang="ru-RU" sz="19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i="1" lang="ru-RU" sz="1900" spc="-1" strike="noStrike">
                <a:solidFill>
                  <a:srgbClr val="000066"/>
                </a:solidFill>
                <a:latin typeface="Tahoma"/>
              </a:rPr>
              <a:t>показать в графе 8 подтабличной строки 2110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33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700" spc="-1" strike="noStrike">
                <a:solidFill>
                  <a:srgbClr val="660066"/>
                </a:solidFill>
                <a:latin typeface="Tahoma"/>
              </a:rPr>
              <a:t>ПОЛНОТА  ПРЕДСТАВЛЕНИЯ  ДАННЫХ  ПО  СТРУКТУРЕ  ФМБА </a:t>
            </a:r>
            <a:br>
              <a:rPr sz="1700"/>
            </a:br>
            <a:r>
              <a:rPr b="1" i="1" lang="en-US" sz="1700" spc="-1" strike="noStrike">
                <a:solidFill>
                  <a:srgbClr val="660066"/>
                </a:solidFill>
                <a:latin typeface="Tahoma"/>
              </a:rPr>
              <a:t>В СВОДНЫХ РЕГИОНАЛЬНЫХ ОТЧЕТНЫХ ФОРМАХ ПО ОНКОЛОГИИ (№ 7 и 35)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413000"/>
            <a:ext cx="866772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Структура ФМБА охватывает 36 регионо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Данные в своде регион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представле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1.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лностью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а уровне первичного документооборота (регистра) 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 24 реги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2.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Полностью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на уровне суммирования с отчетными формами по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  «закрытым» территориям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 4 регио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3.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Частично по обращаемости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в территориальные онкоучреждения</a:t>
            </a:r>
            <a:br>
              <a:rPr sz="1800"/>
            </a:b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 (как правило более 50%)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 3 регионах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Данные в своде регион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не представле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в 5 регионах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: Москва, Краснодарский, Красноярский, Хабаровский края, Нижегоро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360" y="-39600"/>
            <a:ext cx="4861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По результатам приемки отчетов за 201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50920" y="1341360"/>
          <a:ext cx="8424720" cy="2249640"/>
        </p:xfrm>
        <a:graphic>
          <a:graphicData uri="http://schemas.openxmlformats.org/drawingml/2006/table">
            <a:tbl>
              <a:tblPr/>
              <a:tblGrid>
                <a:gridCol w="2735280"/>
                <a:gridCol w="1224000"/>
                <a:gridCol w="3241440"/>
                <a:gridCol w="1224000"/>
              </a:tblGrid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a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таврополь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8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Мордо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амб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6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ом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Еврейская авт.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6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агадан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,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емер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4,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Татарст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молен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4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Мордо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ДОЛЯ СНЯТЫХ С УЧЕТА БОЛЬНЫХ БАЗАЛЬНО-КЛЕТОЧНЫМ РАКОМ КОЖИ ОТ ВПЕРВЫЕ ВЗЯТЫХ БОЛЬНЫХ РАКОМ КОЖИ </a:t>
            </a:r>
            <a:br>
              <a:rPr sz="1800"/>
            </a:b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(КРОМЕ МЕЛАНОМЫ) В 2013 Г.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03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2160" y="9810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РОССИЯ – 62,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149720"/>
            <a:ext cx="840564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ff0000"/>
                </a:solidFill>
                <a:uFillTx/>
                <a:latin typeface="Tahoma"/>
              </a:rPr>
              <a:t>Из Инструкции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О</a:t>
            </a:r>
            <a:r>
              <a:rPr b="1" i="1" lang="ru-RU" sz="1700" spc="-1" strike="noStrike">
                <a:solidFill>
                  <a:srgbClr val="000066"/>
                </a:solidFill>
                <a:latin typeface="Tahoma"/>
              </a:rPr>
              <a:t>чаги базально-клеточного рака кожи, часто возникающие неоднократно на протяжении жизни больного, расцениваются как </a:t>
            </a:r>
            <a:r>
              <a:rPr b="1" i="1" lang="ru-RU" sz="1700" spc="-1" strike="noStrike">
                <a:solidFill>
                  <a:srgbClr val="ff0000"/>
                </a:solidFill>
                <a:latin typeface="Tahoma"/>
              </a:rPr>
              <a:t>один случай</a:t>
            </a:r>
            <a:r>
              <a:rPr b="1" i="1" lang="ru-RU" sz="1700" spc="-1" strike="noStrike">
                <a:solidFill>
                  <a:srgbClr val="000066"/>
                </a:solidFill>
                <a:latin typeface="Tahoma"/>
              </a:rPr>
              <a:t> и </a:t>
            </a:r>
            <a:r>
              <a:rPr b="1" i="1" lang="ru-RU" sz="1700" spc="-1" strike="noStrike">
                <a:solidFill>
                  <a:srgbClr val="ff0000"/>
                </a:solidFill>
                <a:latin typeface="Tahoma"/>
              </a:rPr>
              <a:t>регистрируются один раз</a:t>
            </a:r>
            <a:r>
              <a:rPr b="1" i="1" lang="ru-RU" sz="1700" spc="-1" strike="noStrike">
                <a:solidFill>
                  <a:srgbClr val="000066"/>
                </a:solidFill>
                <a:latin typeface="Tahoma"/>
              </a:rPr>
              <a:t>. При метахронном возникновении нового случая базально-клеточного рака кожи у больных, ранее снятых с учета,  новый случай фиксируется как прогрессирование заболевания, т.е. больной ставится на учет повторно с диагнозом установленным ранее</a:t>
            </a:r>
            <a:r>
              <a:rPr b="1" lang="ru-RU" sz="1700" spc="-1" strike="noStrike">
                <a:solidFill>
                  <a:srgbClr val="000066"/>
                </a:solidFill>
                <a:latin typeface="Tahoma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9480" y="6377040"/>
            <a:ext cx="2774520" cy="368280"/>
          </a:xfrm>
          <a:prstGeom prst="rect">
            <a:avLst/>
          </a:prstGeom>
          <a:solidFill>
            <a:srgbClr val="ffffa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Кожа - единый орган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497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ЧИСЛО УМЕРШИХ В ПРЕДЫДУЩИЕ ГОДЫ, </a:t>
            </a:r>
            <a:br>
              <a:rPr sz="2000"/>
            </a:b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СНЯТЫХ С УЧЕТА В ОТЧЕТНОМ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03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9280" y="1844640"/>
          <a:ext cx="8929800" cy="2943360"/>
        </p:xfrm>
        <a:graphic>
          <a:graphicData uri="http://schemas.openxmlformats.org/drawingml/2006/table">
            <a:tbl>
              <a:tblPr/>
              <a:tblGrid>
                <a:gridCol w="4321440"/>
                <a:gridCol w="1150920"/>
                <a:gridCol w="1008000"/>
                <a:gridCol w="1008000"/>
                <a:gridCol w="1441440"/>
              </a:tblGrid>
              <a:tr h="436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четный год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рост/</a:t>
                      </a:r>
                      <a:br>
                        <a:rPr sz="1900"/>
                      </a:b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быль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a7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1 г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2 г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3 г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a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стет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число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мерших в прошлые годы,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снятых с учета в отчетном г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 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0 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0 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+1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a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бывает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число территорий, имеющих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улевые значения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данного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-3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576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a7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179280" y="5013360"/>
            <a:ext cx="8675640" cy="672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0066"/>
                </a:solidFill>
                <a:latin typeface="Tahoma"/>
              </a:rPr>
              <a:t>Своевременное снятие умерших с учета также осложняют:</a:t>
            </a:r>
            <a:br>
              <a:rPr sz="1900"/>
            </a:br>
            <a:r>
              <a:rPr b="1" lang="en-US" sz="1900" spc="-1" strike="noStrike">
                <a:solidFill>
                  <a:srgbClr val="660066"/>
                </a:solidFill>
                <a:latin typeface="Tahoma"/>
              </a:rPr>
              <a:t>растущая миграция и система учета умерших по месту смер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ПОКАЗАТЕЛИ ЛЕТАЛЬНОСТИ И СМЕР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3336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Летальность наблюдаемых контингентов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отношение числа умерших в отчетном году (из числа учтенных) к числу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наблюдаемых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в течение года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больных (к контингенту)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%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Смертность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– число случаев на 100 тыс.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844640"/>
            <a:ext cx="7993080" cy="2559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РОССИЯ, 2013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Летальность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–  7,2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(число умерших от ЗНО, из числа учтенных –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241 78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«Грубый» показатель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смертности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– 201,0 на 100 тыс.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(общее число, умерших от ЗНО по данным Росстата –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287 78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Учтены диспансерами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Tahoma"/>
              </a:rPr>
              <a:t>посмертно </a:t>
            </a: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20 70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случаев смерти от З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287 789 – (241 788 + 20 706) = 25 295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будут сняты с опоздани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4444920"/>
            <a:ext cx="8496360" cy="2408040"/>
          </a:xfrm>
          <a:prstGeom prst="rect">
            <a:avLst/>
          </a:prstGeom>
          <a:solidFill>
            <a:srgbClr val="e7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В 2013 г. сняты с учета </a:t>
            </a: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30 596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больных (</a:t>
            </a: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все причины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), умерших в предыдущие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Tahoma"/>
              </a:rPr>
              <a:t>Причины: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учет онкобольных осуществляется по месту постоянной регистрации больного, а учет умерших осуществляется по месту смер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принятие ФЗ о защите персональных 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660066"/>
                </a:solidFill>
                <a:latin typeface="Tahoma"/>
              </a:rPr>
              <a:t>прочие причины (организационные, оперативность статистики МЗ, разработка данных Росстата до августа, перекодирование причин смерти Росстатом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24000" y="2852640"/>
          <a:ext cx="8353440" cy="3098880"/>
        </p:xfrm>
        <a:graphic>
          <a:graphicData uri="http://schemas.openxmlformats.org/drawingml/2006/table">
            <a:tbl>
              <a:tblPr/>
              <a:tblGrid>
                <a:gridCol w="2879640"/>
                <a:gridCol w="1008000"/>
                <a:gridCol w="3745080"/>
                <a:gridCol w="7207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ax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1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и Чечня, Адыгея, Ингушетия, Алт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ом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рл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енинградская обла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Северная Осе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агадан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абайкаль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Еврейская авт.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ронеж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уль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. Кабардино-Балкар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рел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ир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836640"/>
            <a:ext cx="8713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РОССИЯ: 20 70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умерших от ЗНО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не состояли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на учете (учтены посмертно), 7,9 на 100 умерших от ЗНО больных (2012 г. – 7,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4392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660066"/>
                </a:solidFill>
                <a:uFillTx/>
                <a:latin typeface="Tahoma"/>
              </a:rPr>
              <a:t>УЧТЕННЫЕ ПОСМЕР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98900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ЧИСЛО УЧТЕННЫХ ПОСМЕРТНО НА 100 ПЕРВИЧНЫХ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11640" y="6170760"/>
            <a:ext cx="4680000" cy="67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Tahoma"/>
              </a:rPr>
              <a:t>снижение числа вскрытий, недостаточно качественная сверка умерших в отделениях Росстата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300720" y="3860640"/>
            <a:ext cx="360360" cy="4392720"/>
          </a:xfrm>
          <a:custGeom>
            <a:avLst/>
            <a:gdLst>
              <a:gd name="textAreaLeft" fmla="*/ 0 w 360360"/>
              <a:gd name="textAreaRight" fmla="*/ 129960 w 360360"/>
              <a:gd name="textAreaTop" fmla="*/ 343440 h 4392720"/>
              <a:gd name="textAreaBottom" fmla="*/ 4049280 h 439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7360" y="-3024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3280" y="2492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РОССИЯ  4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211640" y="1628640"/>
            <a:ext cx="4680000" cy="2066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Таким образом, в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Санкт-Петербурге каждый 5-й больной учитывается посмертно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При этом практически всем умершим от ЗНО, не состоявшим на учете, диагноз установлен посмертно при вскрыт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33360"/>
            <a:ext cx="9036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Tahoma"/>
              </a:rPr>
              <a:t>ДИНАМИКА ЧИСЛА ПОСМЕРТНО УЧТЕННЫХ БОЛЬНЫХ (умерли от ЗНО) </a:t>
            </a:r>
            <a:br>
              <a:rPr sz="1500"/>
            </a:br>
            <a:r>
              <a:rPr b="1" i="1" lang="en-US" sz="1500" spc="-1" strike="noStrike">
                <a:solidFill>
                  <a:srgbClr val="660066"/>
                </a:solidFill>
                <a:latin typeface="Tahoma"/>
              </a:rPr>
              <a:t>НА 100 ВПЕРВЫЕ ВЫЯВЛЕННЫХ БОЛЬНЫХ </a:t>
            </a:r>
            <a:r>
              <a:rPr b="1" i="1" lang="en-US" sz="1500" spc="-1" strike="noStrike" u="sng">
                <a:solidFill>
                  <a:srgbClr val="ff0000"/>
                </a:solidFill>
                <a:uFillTx/>
                <a:latin typeface="Tahoma"/>
              </a:rPr>
              <a:t>В САНКТ-ПЕТЕРБУРГЕ</a:t>
            </a:r>
            <a:r>
              <a:rPr b="1" i="1" lang="en-US" sz="1500" spc="-1" strike="noStrike">
                <a:solidFill>
                  <a:srgbClr val="660066"/>
                </a:solidFill>
                <a:latin typeface="Tahoma"/>
              </a:rPr>
              <a:t> В 2005-2013 г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50920" y="981000"/>
          <a:ext cx="4927680" cy="3897360"/>
        </p:xfrm>
        <a:graphic>
          <a:graphicData uri="http://schemas.openxmlformats.org/drawingml/2006/table">
            <a:tbl>
              <a:tblPr/>
              <a:tblGrid>
                <a:gridCol w="1081080"/>
                <a:gridCol w="1152360"/>
                <a:gridCol w="1511280"/>
                <a:gridCol w="118296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0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0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7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иро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8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5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87948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665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ПОКАЗАТЕЛИ ПО САНКТ-ПЕТЕРБУР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084640"/>
            <a:ext cx="9036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660066"/>
                </a:solidFill>
                <a:latin typeface="Tahoma"/>
              </a:rPr>
              <a:t>ПОКАЗАТЕЛЬ ОДНОГОДИЧНОЙ ЛЕТАЛЬНОСТИ В  2013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5373720"/>
          <a:ext cx="8975880" cy="1334880"/>
        </p:xfrm>
        <a:graphic>
          <a:graphicData uri="http://schemas.openxmlformats.org/drawingml/2006/table">
            <a:tbl>
              <a:tblPr/>
              <a:tblGrid>
                <a:gridCol w="1332000"/>
                <a:gridCol w="1523880"/>
                <a:gridCol w="2592360"/>
                <a:gridCol w="352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фициальные отчетные да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 учетом учтенных посмерт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се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7,8 (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7948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ОТНОШЕНИЕ  ПОКАЗАТЕЛЕЙ  ОДНОГОДИЧНОЙ  ЛЕТАЛЬНОСТИ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И  ЗАПУЩЕННОСТИ (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IV 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ст.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)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ПРЕДЫДУЩЕГО 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0920" y="1197000"/>
          <a:ext cx="8675640" cy="2376360"/>
        </p:xfrm>
        <a:graphic>
          <a:graphicData uri="http://schemas.openxmlformats.org/drawingml/2006/table">
            <a:tbl>
              <a:tblPr/>
              <a:tblGrid>
                <a:gridCol w="3063960"/>
                <a:gridCol w="1968480"/>
                <a:gridCol w="769680"/>
                <a:gridCol w="720720"/>
                <a:gridCol w="720720"/>
                <a:gridCol w="716040"/>
                <a:gridCol w="716040"/>
              </a:tblGrid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9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се З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38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НО молочной желез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НО предстательной желез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0" y="0"/>
            <a:ext cx="6659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ПОКАЗАТЕЛИ ПО САНКТ-ПЕТЕРБУР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50920" y="4869000"/>
          <a:ext cx="8713800" cy="957240"/>
        </p:xfrm>
        <a:graphic>
          <a:graphicData uri="http://schemas.openxmlformats.org/drawingml/2006/table">
            <a:tbl>
              <a:tblPr/>
              <a:tblGrid>
                <a:gridCol w="3076560"/>
                <a:gridCol w="1979640"/>
                <a:gridCol w="769680"/>
                <a:gridCol w="727200"/>
                <a:gridCol w="722160"/>
                <a:gridCol w="719280"/>
                <a:gridCol w="7192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0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2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Все З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08000" y="422100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УДЕЛЬНЫЙ ВЕС ЗНО БЕЗ СТАДИИ </a:t>
            </a:r>
            <a:br>
              <a:rPr sz="1800"/>
            </a:b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(с учетом нестадируемых),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Tahoma"/>
              </a:rPr>
              <a:t>ПЕРВИЧНО-МНОЖЕСТВЕННЫЕ ОПУХОЛИ (ПМО), РОССИЯ,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836640"/>
            <a:ext cx="88930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Удельный вес ПМО среди всех впервые выявленных  ЗНО: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реднероссийский показатель:      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6,1%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(2012 г.  -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,7%)</a:t>
            </a:r>
            <a:br>
              <a:rPr sz="1800"/>
            </a:b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хорошо сбалансированные отчеты: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5-1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 13 территориях: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3% и ме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645000"/>
            <a:ext cx="2101680" cy="67716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Tahoma"/>
              </a:rPr>
              <a:t>дубляж больных при появлении у них новой опух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3213000"/>
            <a:ext cx="0" cy="5032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724280"/>
            <a:ext cx="9144000" cy="17398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Особое внимание обрат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республикам Ингушетия, Дагестан, Алтай, Бурятия, Башкортостан, Тыва, Ко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Ямало-Ненецкому автономному округу, 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Пермскому краю, 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Псковской, Московской, Ленинградской областя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-181080" y="404640"/>
            <a:ext cx="9468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СТРУКТУРА ПОСМЕРТНО УЧТЕННЫХ БОЛЬНЫХ </a:t>
            </a:r>
            <a:br>
              <a:rPr sz="2000"/>
            </a:b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ПО ЛОКАЛИЗАЦИЯМ В РОССИИ, 2012-2013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(таблица 200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формы 7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минус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 таблица 2200 форма 35  по локализация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916280"/>
          <a:ext cx="8208720" cy="4778280"/>
        </p:xfrm>
        <a:graphic>
          <a:graphicData uri="http://schemas.openxmlformats.org/drawingml/2006/table">
            <a:tbl>
              <a:tblPr/>
              <a:tblGrid>
                <a:gridCol w="5329080"/>
                <a:gridCol w="1440000"/>
                <a:gridCol w="1439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д. ве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Локал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2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13 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рахея, бронхи, лег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Желу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бодочная ки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джелудоч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еч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имфатическая и кроветворная тка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ямая ки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олоч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едстательная жел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ло ма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163440" y="1413000"/>
            <a:ext cx="851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Учтено посмертно 20 706 злокачественных новообразован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из ни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4240" y="-12600"/>
            <a:ext cx="33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Анализ нового показ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87280" y="476280"/>
            <a:ext cx="7848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ДОЛЯ ЗНО БЕЗ СТАДИИ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  - 6,8% (35 102 случая),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из них 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51,2% (17 960 случаев) - нестадируемые опухоли: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10 065 лейкемий (гр.4, стр.28, табл.2200, ф.35)</a:t>
            </a:r>
            <a:br>
              <a:rPr sz="18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7 895 ЗНО головного мозга (гр.5, стр.64+65, табл.2000, ф.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755640" y="4581360"/>
          <a:ext cx="2879640" cy="2141280"/>
        </p:xfrm>
        <a:graphic>
          <a:graphicData uri="http://schemas.openxmlformats.org/drawingml/2006/table">
            <a:tbl>
              <a:tblPr/>
              <a:tblGrid>
                <a:gridCol w="28796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Марий Э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Ингуше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Татарст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мчат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ск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2060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аким образом, в РОССИИ доля ЗНО неустановленной стадии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ahoma"/>
              </a:rPr>
              <a:t>~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,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5300640"/>
            <a:ext cx="4500360" cy="824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Tahoma"/>
              </a:rPr>
              <a:t>В  5 регионах показатель уд. веса  ЗНО неустановленной стадии имеет  </a:t>
            </a: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отрицательные значения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4913280"/>
            <a:ext cx="144360" cy="1755720"/>
          </a:xfrm>
          <a:custGeom>
            <a:avLst/>
            <a:gdLst>
              <a:gd name="textAreaLeft" fmla="*/ 0 w 144360"/>
              <a:gd name="textAreaRight" fmla="*/ 52200 w 144360"/>
              <a:gd name="textAreaTop" fmla="*/ 137160 h 1755720"/>
              <a:gd name="textAreaBottom" fmla="*/ 1618560 h 175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88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ЧИСЛО ЗНО НЕУСТАНОВЛЕННОЙ СТАДИИ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6480" y="476280"/>
            <a:ext cx="10569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Ра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7360" y="-3024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2565360"/>
          <a:ext cx="8713800" cy="2111400"/>
        </p:xfrm>
        <a:graphic>
          <a:graphicData uri="http://schemas.openxmlformats.org/drawingml/2006/table">
            <a:tbl>
              <a:tblPr/>
              <a:tblGrid>
                <a:gridCol w="3240360"/>
                <a:gridCol w="1071360"/>
                <a:gridCol w="3394080"/>
                <a:gridCol w="100800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АКСИМАЛЬНЫЕ ПОКАЗАТЕЛИ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луж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2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рл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Адыге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Ямало-Ненецкий а.о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ван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Яросла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еч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лгоград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,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ом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,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уваш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8000" y="692280"/>
            <a:ext cx="903600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РОССИЯ, 2013 г. (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хуже, чем в 2012 г.)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От осложнений специального противоопухолевого лечения умерли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716 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больных, что составляет: 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0,2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больных на 100 умерших больных с ЗНО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или </a:t>
            </a:r>
            <a:br>
              <a:rPr sz="1800"/>
            </a:b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0,1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на 100 больных, учтенных в предыдущем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В 31 регионе не зафиксировано ни одного случая смерти от осложнений лечения, в 15 регионах </a:t>
            </a:r>
            <a:r>
              <a:rPr b="1" i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 1-4 случ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Tahoma"/>
              </a:rPr>
              <a:t>Причины:</a:t>
            </a:r>
            <a:r>
              <a:rPr b="1" i="1" lang="en-US" sz="19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660066"/>
                </a:solidFill>
                <a:latin typeface="Tahoma"/>
              </a:rPr>
              <a:t>- Неверная интерпретация данных, содержащихся в свидетельстве о смерт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660066"/>
                </a:solidFill>
                <a:latin typeface="Tahoma"/>
              </a:rPr>
              <a:t>- Сознательное искажение отчетности на этапе установления причины </a:t>
            </a:r>
            <a:br>
              <a:rPr sz="1700"/>
            </a:br>
            <a:r>
              <a:rPr b="1" i="1" lang="en-US" sz="1700" spc="-1" strike="noStrike">
                <a:solidFill>
                  <a:srgbClr val="660066"/>
                </a:solidFill>
                <a:latin typeface="Tahoma"/>
              </a:rPr>
              <a:t>   смерти </a:t>
            </a:r>
            <a:r>
              <a:rPr b="1" i="1" lang="en-US" sz="1700" spc="-1" strike="noStrike">
                <a:solidFill>
                  <a:srgbClr val="ff0000"/>
                </a:solidFill>
                <a:latin typeface="Tahoma"/>
              </a:rPr>
              <a:t>(может быть, следствие административного давления???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660066"/>
                </a:solidFill>
                <a:latin typeface="Tahoma"/>
              </a:rPr>
              <a:t>- Методические ошиб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0"/>
            <a:ext cx="8425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Проблема: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существенно занижено число больных, умерших от осложнений специального противоопухолевого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5661000"/>
            <a:ext cx="878544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Для сведения: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 методика формирования данного показателя аналогична формированию показателя одногодичной летальности </a:t>
            </a:r>
            <a:r>
              <a:rPr b="1" i="1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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из больных,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впервые учтенных в предыдущем году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6922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ОТНОШЕНИЕ ЧИСЛА УМЕРШИХ К ЧИСЛУ ЗАБОЛЕВШИХ (ИД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15920"/>
            <a:ext cx="88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ПОКАЗАТЕЛИ УЧЕТА РАКА ПЕЧЕНИ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8000" y="4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7360" y="-3024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79280" y="1268280"/>
          <a:ext cx="8136000" cy="4727880"/>
        </p:xfrm>
        <a:graphic>
          <a:graphicData uri="http://schemas.openxmlformats.org/drawingml/2006/table">
            <a:tbl>
              <a:tblPr/>
              <a:tblGrid>
                <a:gridCol w="3600720"/>
                <a:gridCol w="1800000"/>
                <a:gridCol w="273528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тнош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оля вскрыт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анные Росст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Ямало-ненецкий авт.о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ладимир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лого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осков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абайка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раснояр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овгоро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молен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енингра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ИНДИКАТОРЫ </a:t>
            </a:r>
            <a:r>
              <a:rPr b="1" i="1" lang="en-US" sz="2000" spc="-1" strike="noStrike">
                <a:solidFill>
                  <a:srgbClr val="800080"/>
                </a:solidFill>
                <a:latin typeface="Tahoma"/>
              </a:rPr>
              <a:t>ПОДПРОГРАММЫ ОНКОЛОГИЯ </a:t>
            </a:r>
            <a:br>
              <a:rPr sz="2000"/>
            </a:br>
            <a:r>
              <a:rPr b="1" i="1" lang="en-US" sz="2000" spc="-1" strike="noStrike">
                <a:solidFill>
                  <a:srgbClr val="800080"/>
                </a:solidFill>
                <a:latin typeface="Tahoma"/>
              </a:rPr>
              <a:t>НАЦПРОЕКТА «ЗДОРОВЬ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125360"/>
          <a:ext cx="8742600" cy="4545360"/>
        </p:xfrm>
        <a:graphic>
          <a:graphicData uri="http://schemas.openxmlformats.org/drawingml/2006/table">
            <a:tbl>
              <a:tblPr/>
              <a:tblGrid>
                <a:gridCol w="2160720"/>
                <a:gridCol w="719280"/>
                <a:gridCol w="649080"/>
                <a:gridCol w="679320"/>
                <a:gridCol w="648000"/>
                <a:gridCol w="647640"/>
                <a:gridCol w="647640"/>
                <a:gridCol w="647640"/>
                <a:gridCol w="647640"/>
                <a:gridCol w="647640"/>
                <a:gridCol w="648000"/>
              </a:tblGrid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оказатель смертности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 100 тыс.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0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9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8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Выявление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ЗНО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-II</a:t>
                      </a: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стадии, </a:t>
                      </a: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 5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6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Одногодичная летальность,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Уд. вес больных, состоящих на учете 5 лет и более,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,6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 5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акт 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59200" y="5805360"/>
            <a:ext cx="812520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Указ Президента РФ Путина В.В. № 598 от  7 мая 2012 г.:</a:t>
            </a:r>
            <a:br>
              <a:rPr sz="1600"/>
            </a:b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а)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обеспечить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к 2018 г.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снижение смертности от новообразований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в том числе злокачественных) до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192,8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случаев на 100 тыс. населения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1840" y="582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4360" y="1916280"/>
          <a:ext cx="8065800" cy="49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8065800" cy="49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320480" y="335772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9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17920" y="2421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5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64840" y="566100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49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73560" y="5300640"/>
            <a:ext cx="84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51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4365720"/>
            <a:ext cx="563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для всех З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уд. вес больных, состоящих на учете 5 лет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(знаменатель – контингент отчетного го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563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без ЗНО кожи (кроме меланомы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уд. вес больных, состоящих на учете 5 лет и бол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(знаменатель – контингент (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-5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) отчетный го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Численность контингента – 3 098 855 больных,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из них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51,7%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 состоят на учете 5 лет и более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(не выживаемость 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36640"/>
            <a:ext cx="914400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Показатель выживаемости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 (без ЗНО кожи кроме меланомы)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в России в 2013 г. находится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приблизительно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 на уровне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65,5%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(в странах Евросоюза 68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85080" y="3068640"/>
            <a:ext cx="0" cy="2160720"/>
          </a:xfrm>
          <a:prstGeom prst="line">
            <a:avLst/>
          </a:prstGeom>
          <a:ln w="57240">
            <a:solidFill>
              <a:srgbClr val="33cc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ПОКАЗАТЕЛИ ЗАПУЩЕННОСТИ ПРИ РАКЕ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ПОЛОСТИ РТА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III+IV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ст.),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 2013 Г., %</a:t>
            </a:r>
            <a:r>
              <a:rPr b="1" i="1" lang="ru-RU" sz="2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9280" y="1197000"/>
          <a:ext cx="8785440" cy="5476680"/>
        </p:xfrm>
        <a:graphic>
          <a:graphicData uri="http://schemas.openxmlformats.org/drawingml/2006/table">
            <a:tbl>
              <a:tblPr/>
              <a:tblGrid>
                <a:gridCol w="3454560"/>
                <a:gridCol w="936720"/>
                <a:gridCol w="3206520"/>
                <a:gridCol w="1187640"/>
              </a:tblGrid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АКСИМ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агад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му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ря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лу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ладими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емер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рл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. Карачаево-Черкес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ск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рхангель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ве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ург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линингра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яза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Бур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ур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мор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уваш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уль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Ингуше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хали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овгород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Яросла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ИНИМА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ир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амб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елябин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ронеж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179280" y="76500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РОССИЯ – 61,6% 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(33,2%+28,4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УДЕЛЬНЫЙ ВЕС АУТОПСИЙ СРЕДИ УМЕРШИХ ОТ ЗНО, 2013 Г. ,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9280" y="1197000"/>
          <a:ext cx="8785440" cy="5476680"/>
        </p:xfrm>
        <a:graphic>
          <a:graphicData uri="http://schemas.openxmlformats.org/drawingml/2006/table">
            <a:tbl>
              <a:tblPr/>
              <a:tblGrid>
                <a:gridCol w="3454560"/>
                <a:gridCol w="936720"/>
                <a:gridCol w="3206520"/>
                <a:gridCol w="11876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АКСИМАЛЬНЫЙ 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МИНИМ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Чукотский авт. окр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Даге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нкт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еч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Хака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Ал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уваш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.Карачаево-Черкес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Ты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.Кабардино-Балкар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Архангель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Адыг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м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. Северная Осе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Еврейская авт.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Белгоро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Ямало-Ненецкий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раснояр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лмык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анты-Мансийский а.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тавропо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овгоро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Татарст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енингра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Марий Э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 w="2880">
                      <a:solidFill>
                        <a:srgbClr val="0000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ркут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логодская об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 w="2880">
                      <a:solidFill>
                        <a:srgbClr val="000066"/>
                      </a:solidFill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66"/>
                      </a:solidFill>
                    </a:lnL>
                    <a:lnR>
                      <a:noFill/>
                    </a:lnR>
                    <a:lnT w="2880">
                      <a:solidFill>
                        <a:srgbClr val="000066"/>
                      </a:solidFill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79280" y="765000"/>
            <a:ext cx="56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РОССИЯ – 32,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4067280" cy="3051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067280" y="4724280"/>
            <a:ext cx="5076720" cy="186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ahoma"/>
              </a:rPr>
              <a:t>К сведению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ФГБУ МНИОИ им. П.А. Герцена размещает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электронный вариант данных изданий на портале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600" spc="-1" strike="noStrike">
                <a:solidFill>
                  <a:srgbClr val="ff0000"/>
                </a:solidFill>
                <a:latin typeface="Tahoma"/>
              </a:rPr>
              <a:t>www.oncology.ru  </a:t>
            </a:r>
            <a:br>
              <a:rPr sz="1600"/>
            </a:b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сылка:</a:t>
            </a:r>
            <a:br>
              <a:rPr sz="1600"/>
            </a:b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oncology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servic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statistic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malignant_tumor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/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268280"/>
            <a:ext cx="8686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Российский Центр информационных технологий и эпидемиологических исследований в области онкологии МЗ РФ в составе МНИОИ им. П.А. Гер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т. (495)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945-11-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rzto@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565360"/>
            <a:ext cx="7777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1800" spc="-1" strike="noStrike">
                <a:solidFill>
                  <a:srgbClr val="000066"/>
                </a:solidFill>
                <a:latin typeface="Tahoma"/>
              </a:rPr>
              <a:t>Сайт регистра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WWW.CANCER-REG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обновления программы ИАС «Канцер-рег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методические рекомендации по ведению реги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справочные 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765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Tahoma"/>
              </a:rPr>
              <a:t>Петрова Галина Вениаминовна</a:t>
            </a: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189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Tahoma"/>
              </a:rPr>
              <a:t>БАЗОВЫЕ ЗНАЧЕНИЯ, ОБЪЕДИНЯЮЩИЕ ВСЕ ДАННЫЕ ФОРМ  7 и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5000"/>
            <a:ext cx="914400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Число впервые выявленных ЗН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 форме 7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табл. 2000, графа 5, стр.1+2) </a:t>
            </a:r>
            <a:br>
              <a:rPr sz="20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включает все впервые выявленные ЗНО, в т.ч. посмертно учтенные и ПМО; используется для расчета показателей заболевае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Число впервые выявленных ЗН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 форме 35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табл. 2200, графа 4, стр.1) </a:t>
            </a:r>
            <a:br>
              <a:rPr sz="20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включает все впервые выявленные ЗНО, в т.ч. ПМО, но не включает посмертно учтенные опухоли; используется для расчета показателей диагностики и л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Число впервые выявленных больных, поставленных на учет в отчетном году, без посмертно учтенных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 форме 35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(табл. 2100, графа 4, стр.1) </a:t>
            </a:r>
            <a:br>
              <a:rPr sz="2000"/>
            </a:b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данный показатель должен согласовываться с количеством впервые выявленных ПМО, показанных в подстрочнике 2010 формы 7 ; следует учитывать, что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метахронные ПМО число больных не увеличивают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, а </a:t>
            </a: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2 синхронные опухоли возникают у одного больно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i="1" lang="ru-RU" sz="1800" spc="-1" strike="noStrike">
                <a:solidFill>
                  <a:srgbClr val="660066"/>
                </a:solidFill>
                <a:latin typeface="Tahoma"/>
              </a:rPr>
              <a:t>используется для расчета индекса накопления континг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59760" y="6377040"/>
            <a:ext cx="6427440" cy="36828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условие контроля № 39 (в программе МЕДСТАТ  № 26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1890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Tahoma"/>
              </a:rPr>
              <a:t>МЕЖГОДОВОЙ БАЛАНС ПО ФОРМЕ 35, 201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836640"/>
            <a:ext cx="8307360" cy="57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рушение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межгодового баланса по форме 35 в отчетах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14 регионов (2012 г.  - 14, 2011 г. – 30 регионов)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 u="sng">
                <a:solidFill>
                  <a:srgbClr val="000066"/>
                </a:solidFill>
                <a:uFillTx/>
                <a:latin typeface="Tahoma"/>
              </a:rPr>
              <a:t>Формула межгодового баланса по форме 35:</a:t>
            </a: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ahoma"/>
              </a:rPr>
              <a:t>сумма</a:t>
            </a: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 чисел больных, состоявших на учете на конец предыдущего года (таблица 2100, графа 8, строка 1 за предыдущий год), больных с впервые в жизни установленным диагнозом в отчетном году (таблица 2100, графа 4, строка 1), больных с ранее установленным диагнозом ЗНО (таблица 2110, графа 8) </a:t>
            </a:r>
            <a:r>
              <a:rPr b="1" i="1" lang="ru-RU" sz="1600" spc="-1" strike="noStrike" u="sng">
                <a:solidFill>
                  <a:srgbClr val="ff0000"/>
                </a:solidFill>
                <a:uFillTx/>
                <a:latin typeface="Tahoma"/>
              </a:rPr>
              <a:t>минус</a:t>
            </a: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 число выехавших из района деятельности учреждения (таблица 2110, графа 1), число лиц с неподтвержденным диагнозом ЗНО (таблица 2110, графа 2), число больных с базально-клеточным раком кожи, снятых с учета через 5 лет после окончания специального лечения (таблица 2110, графа 3), число умерших от ЗНО (таблица 2100, графа 6, строка 1), число умерших больных С ЗНО, причиной смерти которых послужило неонкологическое заболевание  (таблица 2120, графа 5), число умерших в предыдущие годы (из числа учтенных), снятых с учета в отчетном году (таблица 2120, графа 7)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</a:rPr>
              <a:t>составляет в итоге число больных, состоящих на учете на конец отчетного года (таблица 2100, графа 8, строка 1).</a:t>
            </a: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1" i="1" lang="ru-RU" sz="1200" spc="-1" strike="noStrike">
                <a:solidFill>
                  <a:srgbClr val="000066"/>
                </a:solidFill>
                <a:latin typeface="Tahoma"/>
              </a:rPr>
              <a:t>Аналогичное условие по другим строкам таблицы 2100 может не выполняться за счет возможного перераспределения по локализациям больных с первично-множественными ЗНО, состоящих на учете на конец отчетного года, по сравнению с предыдущим г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Tahoma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</a:rPr>
              <a:t>в программе Медстат </a:t>
            </a:r>
            <a:r>
              <a:rPr b="1" i="1" lang="ru-RU" sz="1600" spc="-1" strike="noStrike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ru-RU" sz="1600" spc="-1" strike="noStrike">
                <a:solidFill>
                  <a:srgbClr val="ff0000"/>
                </a:solidFill>
                <a:latin typeface="Tahoma"/>
              </a:rPr>
              <a:t> условие № 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5400000">
            <a:off x="2556000" y="2420640"/>
            <a:ext cx="288720" cy="4032000"/>
          </a:xfrm>
          <a:custGeom>
            <a:avLst/>
            <a:gdLst>
              <a:gd name="textAreaLeft" fmla="*/ 0 w 288720"/>
              <a:gd name="textAreaRight" fmla="*/ 104040 w 288720"/>
              <a:gd name="textAreaTop" fmla="*/ 315360 h 4032000"/>
              <a:gd name="textAreaBottom" fmla="*/ 371664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4869000"/>
            <a:ext cx="316872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сего в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6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территор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16000" y="2276640"/>
          <a:ext cx="8928000" cy="1595160"/>
        </p:xfrm>
        <a:graphic>
          <a:graphicData uri="http://schemas.openxmlformats.org/drawingml/2006/table">
            <a:tbl>
              <a:tblPr/>
              <a:tblGrid>
                <a:gridCol w="3025800"/>
                <a:gridCol w="1549440"/>
                <a:gridCol w="2766960"/>
                <a:gridCol w="158580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авышенные показ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аниженные показ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лмык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9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Буря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9,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овосибирская об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8,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Еврейская авт.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0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еч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8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Дагестан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5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6000" y="620280"/>
            <a:ext cx="89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СОГЛАСОВАННОСТЬ ДАННЫХ ПО РАДИКАЛЬНОМУ ЛЕЧЕНИЮ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, %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условие контроля № 40 (в программе МЕДСТАТ  № 2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03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92720" y="4869000"/>
            <a:ext cx="327816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сего в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5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территор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803640" y="2420640"/>
            <a:ext cx="288720" cy="4032360"/>
          </a:xfrm>
          <a:custGeom>
            <a:avLst/>
            <a:gdLst>
              <a:gd name="textAreaLeft" fmla="*/ 0 w 288720"/>
              <a:gd name="textAreaRight" fmla="*/ 104040 w 288720"/>
              <a:gd name="textAreaTop" fmla="*/ 315360 h 4032360"/>
              <a:gd name="textAreaBottom" fmla="*/ 371700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642920" y="3717720"/>
            <a:ext cx="288720" cy="4032360"/>
          </a:xfrm>
          <a:custGeom>
            <a:avLst/>
            <a:gdLst>
              <a:gd name="textAreaLeft" fmla="*/ 0 w 288720"/>
              <a:gd name="textAreaRight" fmla="*/ 104040 w 288720"/>
              <a:gd name="textAreaTop" fmla="*/ 315360 h 4032360"/>
              <a:gd name="textAreaBottom" fmla="*/ 371700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6021360"/>
            <a:ext cx="3278160" cy="31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Всего в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41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терри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2960" y="170028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РОССИЯ – 99,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7360" y="-3024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201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333000"/>
            <a:ext cx="892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СОГЛАСОВАННОСТЬ ДАННЫХ ПО РАДИКАЛЬНОМУ ЛЕЧЕНИЮ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 , %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условие контроля № 40 (в программе МЕДСТАТ  № 2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03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1197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Примеры разброса показа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1628640"/>
            <a:ext cx="896472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Архангельская область: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баланс по лечению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99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противопоказания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7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                 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отказы  -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,6%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Республика Бурятия: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баланс по лечению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69,5%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                                   противопоказания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,1%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          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отказы  -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0,7%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Республика Калмыкия: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баланс по лечению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09,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противопоказания –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22,5%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отказы  -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1,1,6%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18760" y="1866960"/>
            <a:ext cx="2318760" cy="38592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Tahoma"/>
              </a:rPr>
              <a:t>удовлетвор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Только лучевым методом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возможно радикальное лечение рака губы, полости рта (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стадия), гортани (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стадия), шейки матки, анального канала, кожи, предстательной жел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Только лекарственным методом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возможно радикальное лечение лейкемии, лимфомы, хориокарциномы м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Только химио-лучевым методом</a:t>
            </a:r>
            <a:r>
              <a:rPr b="1" i="1" lang="ru-RU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возможно радикальное лечение рака губы, полости рта (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стадия), гортани (</a:t>
            </a:r>
            <a:r>
              <a:rPr b="1" i="1" lang="en-US" sz="18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стадия), анального канала, почки, предстательной железы, мочевого пузыря, легкого (мелкоклеточный рак),  лимфо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Комбинированным методом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 могут быть радикально пролечены ЗНО любой лок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ahoma"/>
              </a:rPr>
              <a:t>Только хирургическим методом</a:t>
            </a: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могут быть радикально пролечены ЗНО любой локализации (в основном ранние стадии), кроме лейкемии</a:t>
            </a:r>
            <a:br>
              <a:rPr sz="1800"/>
            </a:b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0"/>
            <a:ext cx="822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РЕКОМЕНДАЦИИ ПО ФОРМИРОВАНИЮ ТАБЛИЦЫ ПО ЛЕЧЕНИЮ </a:t>
            </a:r>
            <a:r>
              <a:rPr b="1" i="1" lang="en-US" sz="1800" spc="-1" strike="noStrike">
                <a:solidFill>
                  <a:srgbClr val="ff0000"/>
                </a:solidFill>
                <a:latin typeface="Tahoma"/>
              </a:rPr>
              <a:t>(ФОРМА 35 ТАБЛИЦА 2300 ГРАФЫ 6-10)</a:t>
            </a: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1800"/>
            </a:br>
            <a:r>
              <a:rPr b="1" i="1" lang="en-US" sz="1800" spc="-1" strike="noStrike">
                <a:solidFill>
                  <a:srgbClr val="660066"/>
                </a:solidFill>
                <a:latin typeface="Tahoma"/>
              </a:rPr>
              <a:t>ПО ЛОКАЛИЗАЦИЯМ ОПУХОЛЕВ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724280"/>
            <a:ext cx="8353440" cy="1465560"/>
          </a:xfrm>
          <a:prstGeom prst="rect">
            <a:avLst/>
          </a:pr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Корректировались 43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Особое внимание обрат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Белгородской, Московской областя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Tahoma"/>
              </a:rPr>
              <a:t>республикам Ингушетия, Дагестан, Буря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052640"/>
          <a:ext cx="9144000" cy="3724200"/>
        </p:xfrm>
        <a:graphic>
          <a:graphicData uri="http://schemas.openxmlformats.org/drawingml/2006/table">
            <a:tbl>
              <a:tblPr/>
              <a:tblGrid>
                <a:gridCol w="2843280"/>
                <a:gridCol w="1224000"/>
                <a:gridCol w="936360"/>
                <a:gridCol w="1081080"/>
                <a:gridCol w="1295640"/>
                <a:gridCol w="17636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ерритор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ыявлено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из них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IV 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дикальное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е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оля пролеченных от подлежащ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а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не законч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С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 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 1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 7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2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Марий Э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Калмык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Ты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0,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лининградская об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0,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тавропольский кр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6,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ировская об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8,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ренбургская обл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7,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риморский кра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7,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Ингушет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15,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13680">
                      <a:solidFill>
                        <a:srgbClr val="ff0000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. Карачаево-Черкес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10,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solidFill>
                      <a:srgbClr val="ffffb7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03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0"/>
            <a:ext cx="87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Tahoma"/>
              </a:rPr>
              <a:t>Проблема: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ДЕТИ!!! низкое качество показателей состояния онкологической  помощи и учета (неудовлетворительная система направления «Выписок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ПРИМЕР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800"/>
            </a:br>
            <a:r>
              <a:rPr b="1" i="1" lang="en-US" sz="1600" spc="-1" strike="noStrike">
                <a:solidFill>
                  <a:srgbClr val="660066"/>
                </a:solidFill>
                <a:latin typeface="Tahoma"/>
              </a:rPr>
              <a:t>ПОКАЗАТЕЛИ РАДИКАЛЬНОГО ЛЕЧЕНИЯ ЗНО У ДЕТЕЙ  в 2012-2013 гг.</a:t>
            </a:r>
            <a:r>
              <a:rPr b="1" i="1" lang="en-US" sz="1900" spc="-1" strike="noStrike">
                <a:solidFill>
                  <a:srgbClr val="660066"/>
                </a:solidFill>
                <a:latin typeface="Tahom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4772160"/>
          <a:ext cx="8075520" cy="2085840"/>
        </p:xfrm>
        <a:graphic>
          <a:graphicData uri="http://schemas.openxmlformats.org/drawingml/2006/table">
            <a:tbl>
              <a:tblPr/>
              <a:tblGrid>
                <a:gridCol w="3456000"/>
                <a:gridCol w="46195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оличество терри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b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Доля пролеченных от подлежащих радикальному леч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660066"/>
                      </a:solidFill>
                    </a:lnB>
                    <a:solidFill>
                      <a:srgbClr val="ffffb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1  (1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-50%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3 (16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51-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4 (2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71-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6 (32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91-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 w="5760">
                      <a:solidFill>
                        <a:srgbClr val="6600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8 (10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660066"/>
                      </a:solidFill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ыше 100% 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0066"/>
                      </a:solidFill>
                    </a:lnL>
                    <a:lnR>
                      <a:noFill/>
                    </a:lnR>
                    <a:lnT w="5760">
                      <a:solidFill>
                        <a:srgbClr val="6600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69228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Индекс достоверности учета (ИДУ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2482560" y="3789360"/>
            <a:ext cx="289080" cy="4032000"/>
          </a:xfrm>
          <a:custGeom>
            <a:avLst/>
            <a:gdLst>
              <a:gd name="textAreaLeft" fmla="*/ 0 w 289080"/>
              <a:gd name="textAreaRight" fmla="*/ 104400 w 289080"/>
              <a:gd name="textAreaTop" fmla="*/ 315360 h 4032000"/>
              <a:gd name="textAreaBottom" fmla="*/ 3716640 h 40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6021360"/>
            <a:ext cx="4427280" cy="67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12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территориях смертность выше или равна заболеваемости,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плюс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в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 9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территориях ИДУ выше 0,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700280"/>
          <a:ext cx="9036000" cy="3951360"/>
        </p:xfrm>
        <a:graphic>
          <a:graphicData uri="http://schemas.openxmlformats.org/drawingml/2006/table">
            <a:tbl>
              <a:tblPr/>
              <a:tblGrid>
                <a:gridCol w="2952720"/>
                <a:gridCol w="1511280"/>
                <a:gridCol w="3024360"/>
                <a:gridCol w="1547640"/>
              </a:tblGrid>
              <a:tr h="77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</a:rPr>
                        <a:t>РОССИЯ - 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удовл. учет заболевши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еудовл. учет умерших ??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333399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Чеч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Сахалин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Орл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Пензен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ур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Мурман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Ленинград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Удмур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Хакас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абаров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ладимир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Камчатский кра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ост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Республика Ингуше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Ямало-Ненецкий а.о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лгоград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 w="288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Тамб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1,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льяновская обл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 w="2880">
                      <a:solidFill>
                        <a:srgbClr val="333399"/>
                      </a:solidFill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0,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333399"/>
                      </a:solidFill>
                    </a:lnL>
                    <a:lnR>
                      <a:noFill/>
                    </a:lnR>
                    <a:lnT w="288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675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66"/>
                </a:solidFill>
                <a:latin typeface="Tahoma"/>
              </a:rPr>
              <a:t>ОТНОШЕНИЕ ЧИСЛА УМЕРШИХ  К ЧИСЛУ ЗАБОЛЕВШИХ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ЛЕЙКОЗЫ,</a:t>
            </a:r>
            <a:r>
              <a:rPr b="1" i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ahoma"/>
              </a:rPr>
              <a:t>2011-2013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84720" y="5950080"/>
            <a:ext cx="2843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0384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0"/>
            <a:ext cx="87120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Проблема: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 недоучет первичных опухолей ЗНО лимфатической и кроветворной ткани (неудовлетворительная система направления «Извещений», сверка умерших, выбор причины смер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803640" y="3789360"/>
            <a:ext cx="289080" cy="4032360"/>
          </a:xfrm>
          <a:custGeom>
            <a:avLst/>
            <a:gdLst>
              <a:gd name="textAreaLeft" fmla="*/ 0 w 289080"/>
              <a:gd name="textAreaRight" fmla="*/ 104400 w 289080"/>
              <a:gd name="textAreaTop" fmla="*/ 315360 h 4032360"/>
              <a:gd name="textAreaBottom" fmla="*/ 3717000 h 403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6021360"/>
            <a:ext cx="3384360" cy="53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в</a:t>
            </a:r>
            <a:r>
              <a:rPr b="1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19 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территориях ИДУ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в пределах 0,3-0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7T11:38:12Z</dcterms:created>
  <dc:creator> </dc:creator>
  <dc:description/>
  <dc:language>en-US</dc:language>
  <cp:lastModifiedBy> </cp:lastModifiedBy>
  <dcterms:modified xsi:type="dcterms:W3CDTF">2014-11-20T08:22:04Z</dcterms:modified>
  <cp:revision>104</cp:revision>
  <dc:subject/>
  <dc:title>Слайд 1</dc:title>
</cp:coreProperties>
</file>