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798-E762-4BA1-A958-83F2A68E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F885-DC5D-4094-A45C-CEE1B56F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32AE-69C1-4159-901A-8C16523D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0FAE-F2AE-42AE-A16E-DDBB5C27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65D-9BE9-4C86-89A8-ACDBB9D1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777-FADD-4E81-BB99-381D533B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031A-70BE-44B9-9760-7098FE00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785-B686-471D-949E-54DEABBC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CA96-EC77-4FC4-BD5B-7B10B31D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CC3-F903-4B0D-85B4-3D752DA5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3CA-B6F4-4C6B-B5F2-06D09619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687-EED3-436C-B442-34EE66D0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6EC7-4996-4D21-997C-B59CB3BEDE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менения в условиях контроля форма 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№1-РБ и №6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ыбикова Эржени Батожарга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дущий научный  сотру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ГБУ «Центральный НИИ организации и информатизации здравоохранения» Минздрава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-mail: erzheny@bk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равки в условиях контрол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истической формы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№1-Р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1844640"/>
            <a:ext cx="7848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е 5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10=20+30+40+50+60+70+80+90+100+110+120+130+140+150+160+170+180+190+200 (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удалена стр.21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правки в условиях контрол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тистической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формы №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е 3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таб.1002, стр.1, гр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.1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е 6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таб.2000, стр.2=стр.3+5+8+11+15+18+19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2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21+2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е 65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– удале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е 94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– удале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е 115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– удале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форменный контроль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– удал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жгодовой контроль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– удал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13:00:33Z</dcterms:created>
  <dc:creator>e.tsybikova</dc:creator>
  <dc:description/>
  <dc:language>en-US</dc:language>
  <cp:lastModifiedBy>коференц зал</cp:lastModifiedBy>
  <dcterms:modified xsi:type="dcterms:W3CDTF">2014-11-20T06:32:28Z</dcterms:modified>
  <cp:revision>3</cp:revision>
  <dc:subject/>
  <dc:title>Поправки в условиях контроля  формы №1-РБ</dc:title>
</cp:coreProperties>
</file>