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6A4ED-B5E6-4280-8490-BA0980AE8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4DF8E-1C39-4158-825D-DF912279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668E6-A6E7-42E1-BA82-A4C047006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78BF9-8E38-4240-A98E-450FAB6AF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E4F0-33DB-478D-A6CD-766EB14D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21D0-82D9-41CF-AA47-54A2FC65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0E25-70DC-455F-84C7-7CBEA8DA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F163-E37B-4FC7-930C-55D64E22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E89B-F60A-4B40-B4C6-A12600BE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B60D-63E5-4E47-85E9-28397607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D28B-1F0D-4DA9-8460-4908B1B0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26117-9E20-46C8-9DB3-28F7FBB2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6DD8-1DCE-4461-92C2-439C5D99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1589-6129-4395-B04B-B2073786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17B7-2E9E-4A58-A29E-2382ED97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C5FE-6F80-45B8-B03E-8E2CF0B3D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FCC3-8420-493F-8F88-01F5BC5A3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FEF27-84A8-4458-90C0-6BFF1C63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86669-FAC5-4562-BBC1-8A87E75D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3DB78-3B92-45F3-9690-A5C9B575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D7F33-C2A5-4775-9E82-A5055C04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6985F-281D-4288-9E8B-6900198C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CE01B-5982-4658-8D34-9A66BC89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28737-A54B-4457-9D27-BD00B019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7CFE-F7B1-46E6-AF19-DFBDFC65653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6D40-1DD7-47ED-8CF8-83D5034DD699}" type="slidenum">
              <a:rPr b="0" lang="ru-RU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1676520"/>
            <a:ext cx="807732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Форма №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7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«Сведения о медицинских и фармацевтических работниках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019560" y="617220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Несветайло Н.Я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710280" y="457200"/>
            <a:ext cx="64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Таблица 1001 – 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Средний медицинский персонал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80880" y="1523880"/>
            <a:ext cx="8382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3300"/>
                </a:solidFill>
                <a:uFillTx/>
                <a:latin typeface="Times New Roman"/>
              </a:rPr>
              <a:t>Графы 4, 5, 6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заполняются на основании удостоверений о присвоении квалификационной категории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3300"/>
                </a:solidFill>
                <a:uFillTx/>
                <a:latin typeface="Times New Roman"/>
              </a:rPr>
              <a:t>Графа 7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заполняются на основании сертификатов специалиста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Средний медицинский персонал, фармацевты, имеющие категории по нескольким специальностям </a:t>
            </a:r>
            <a:r>
              <a:rPr b="0" lang="ru-RU" sz="2000" spc="-1" strike="noStrike" u="sng">
                <a:solidFill>
                  <a:srgbClr val="003300"/>
                </a:solidFill>
                <a:uFillTx/>
                <a:latin typeface="Times New Roman"/>
              </a:rPr>
              <a:t>в отчете показываются 1 раз - по основной специальности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, поэтому сумма граф 4+5+6 не должна превышать данные графы 3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457200" y="380880"/>
            <a:ext cx="69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Таблица 1001 – 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Средний медицинский персонал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28600" y="5029200"/>
            <a:ext cx="8686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00"/>
                </a:solidFill>
                <a:uFillTx/>
                <a:latin typeface="Times New Roman"/>
              </a:rPr>
              <a:t>В строках со 133 по 144</a:t>
            </a:r>
            <a:r>
              <a:rPr b="1" lang="ru-RU" sz="1600" spc="-1" strike="noStrike">
                <a:solidFill>
                  <a:srgbClr val="003300"/>
                </a:solidFill>
                <a:latin typeface="Times New Roman"/>
              </a:rPr>
              <a:t> указываются сведения из строки 132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В строку 148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включаются сведения о средних медицинских работниках, которые работают с врачами, показанными в строке 96 таблицы 1000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3" name="Line 171"/>
          <p:cNvSpPr/>
          <p:nvPr/>
        </p:nvSpPr>
        <p:spPr>
          <a:xfrm>
            <a:off x="5334120" y="1851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4" name="Line 655"/>
          <p:cNvSpPr/>
          <p:nvPr/>
        </p:nvSpPr>
        <p:spPr>
          <a:xfrm>
            <a:off x="5524560" y="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52280" y="838080"/>
          <a:ext cx="8839440" cy="3857760"/>
        </p:xfrm>
        <a:graphic>
          <a:graphicData uri="http://schemas.openxmlformats.org/drawingml/2006/table">
            <a:tbl>
              <a:tblPr/>
              <a:tblGrid>
                <a:gridCol w="7518600"/>
                <a:gridCol w="635040"/>
                <a:gridCol w="68580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редние медицинские и фармацевтические работники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медицинские сестры ( всего)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Из числа среднего медицинского персонала (из стр. 108) работают по специальностям: сестринское дело (с высшим образованием)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управление сестринской деятельностью  (с высшим образованием)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46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среднего медицинского персонала (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107)</a:t>
                      </a: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работают с врачами клинических специальностей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8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AutoShape 1599"/>
          <p:cNvSpPr/>
          <p:nvPr/>
        </p:nvSpPr>
        <p:spPr>
          <a:xfrm>
            <a:off x="8305920" y="2209680"/>
            <a:ext cx="609480" cy="457200"/>
          </a:xfrm>
          <a:custGeom>
            <a:avLst/>
            <a:gdLst>
              <a:gd name="textAreaLeft" fmla="*/ 0 w 609480"/>
              <a:gd name="textAreaRight" fmla="*/ 219960 w 609480"/>
              <a:gd name="textAreaTop" fmla="*/ 53640 h 457200"/>
              <a:gd name="textAreaBottom" fmla="*/ 403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50"/>
                  <a:pt x="10800" y="8100"/>
                </a:cubicBezTo>
                <a:lnTo>
                  <a:pt x="10800" y="2700"/>
                </a:lnTo>
                <a:cubicBezTo>
                  <a:pt x="10800" y="6750"/>
                  <a:pt x="16200" y="10800"/>
                  <a:pt x="21600" y="10800"/>
                </a:cubicBezTo>
                <a:cubicBezTo>
                  <a:pt x="16200" y="10800"/>
                  <a:pt x="10800" y="14850"/>
                  <a:pt x="10800" y="18900"/>
                </a:cubicBezTo>
                <a:lnTo>
                  <a:pt x="10800" y="13500"/>
                </a:lnTo>
                <a:cubicBezTo>
                  <a:pt x="10800" y="1755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5120" y="1752120"/>
            <a:ext cx="723888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Форма №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7</a:t>
            </a:r>
            <a:br>
              <a:rPr sz="40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«Сведения о медицинских и фармацевтических работниках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617840" y="457200"/>
            <a:ext cx="586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Основные правила формирования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457200" y="1219320"/>
            <a:ext cx="830592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1)  </a:t>
            </a:r>
            <a:r>
              <a:rPr b="0" lang="ru-RU" sz="2200" spc="-1" strike="noStrike">
                <a:solidFill>
                  <a:srgbClr val="003300"/>
                </a:solidFill>
                <a:latin typeface="Arial"/>
              </a:rPr>
              <a:t>Отчетная форма №17 федерального статистического наблюдения «Сведения о медицинских и фармацевтических работниках»</a:t>
            </a:r>
            <a:r>
              <a:rPr b="0" lang="en-US" sz="2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3300"/>
                </a:solidFill>
                <a:latin typeface="Arial"/>
              </a:rPr>
              <a:t>составляется всеми медицинскими организациями, входящими в номенклатуру медицинских организаций (приказ Минздрава России от 06.08.2013 г. № 529н)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00"/>
                </a:solidFill>
                <a:latin typeface="Times New Roman"/>
              </a:rPr>
              <a:t>2)  </a:t>
            </a:r>
            <a:r>
              <a:rPr b="0" lang="ru-RU" sz="2200" spc="-1" strike="noStrike">
                <a:solidFill>
                  <a:srgbClr val="003300"/>
                </a:solidFill>
                <a:latin typeface="Arial"/>
              </a:rPr>
              <a:t>Форма содержит сведения о работниках медицинских организаций, образовательных и научных медицинских организаций, имеющих высшее и среднее профессиональное медицинское и фармацевтическое образование. Форма составляется в соответствии с утвержденной Министерством здравоохранения Российской Федерации  номенклатурой специальностей определенных категорий медицинских и фармацевтических работников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617840" y="457200"/>
            <a:ext cx="586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Основные правила формирования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304920" y="1752480"/>
            <a:ext cx="861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В 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форме показывается число работников физических лиц, для которых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рофессиональная деятельность по учитываемой специальности и сертификату является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сновным видом занятости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то есть учитываются работники, выполнявшие в отчетном периоде постоянную или временную работу по занимаемой должности (если в этот период не имели постоянной работы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55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00"/>
                </a:solidFill>
                <a:latin typeface="Arial"/>
              </a:rPr>
              <a:t>В форму включаются все работающие и длительно отсутствующие специалисты (декретный отпуск, длительно болеющие</a:t>
            </a:r>
            <a:r>
              <a:rPr b="0" lang="en-US" sz="2200" spc="-1" strike="noStrike">
                <a:solidFill>
                  <a:srgbClr val="003300"/>
                </a:solidFill>
                <a:latin typeface="Arial"/>
              </a:rPr>
              <a:t> …</a:t>
            </a:r>
            <a:r>
              <a:rPr b="0" lang="ru-RU" sz="2200" spc="-1" strike="noStrike">
                <a:solidFill>
                  <a:srgbClr val="003300"/>
                </a:solidFill>
                <a:latin typeface="Arial"/>
              </a:rPr>
              <a:t>), трудовые книжки которых, находятся в данной организации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55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00"/>
                </a:solidFill>
                <a:latin typeface="Arial"/>
              </a:rPr>
              <a:t>В строки, содержащие сведения о работающих в медицинских организациях, </a:t>
            </a:r>
            <a:r>
              <a:rPr b="1" lang="ru-RU" sz="2200" spc="-1" strike="noStrike">
                <a:solidFill>
                  <a:srgbClr val="003300"/>
                </a:solidFill>
                <a:latin typeface="Arial"/>
              </a:rPr>
              <a:t>расположенных в сельской местности, включают сведения о работающих в обособленных структурных подразделениях, филиалах организаций, расположенных в сельских</a:t>
            </a:r>
            <a:r>
              <a:rPr b="0" lang="ru-RU" sz="2200" spc="-1" strike="noStrike">
                <a:solidFill>
                  <a:srgbClr val="003300"/>
                </a:solidFill>
                <a:latin typeface="Arial"/>
              </a:rPr>
              <a:t> муниципальных образованиях,  предоставляющих медицинскую помощь сельскому населению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108240" y="471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609480" y="546120"/>
            <a:ext cx="835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Основные правила формирования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Рекомендованные документы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533520" y="1143000"/>
            <a:ext cx="777240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Номенклатура медицинских организаций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Приказ Министерства здравоохранения Российской Федерации от 06.08.2013 N 529н "Об утверждении номенклатуры медицинских организаций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”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(Зарегистрировано в Минюсте России 13.09.2013 N 29950)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00"/>
                </a:solidFill>
                <a:uFillTx/>
                <a:latin typeface="Times New Roman"/>
              </a:rPr>
              <a:t>Номенклатура должностей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- Приказ Министерства здравоохранения Российской Федерации от 20.12.2012 N 1183н "Об утверждении номенклатуры должностей медицинских и фармацевтических работников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”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(Зарегистрировано в Минюсте России 10.03.2013 N 27723), с изменениями на 01.08.2014 года (Приказ Минздрава России №420н.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00"/>
                </a:solidFill>
                <a:uFillTx/>
                <a:latin typeface="Times New Roman"/>
              </a:rPr>
              <a:t>Номенклатура специальностей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- Приказ Минздрава РФ от 27.08.1999 N 337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“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О номенклатуре специальностей в учреждениях здравоохранения Российской Федерации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”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617840" y="457200"/>
            <a:ext cx="586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Основные правила формирования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228600" y="1219320"/>
            <a:ext cx="86104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3300"/>
                </a:solidFill>
                <a:uFillTx/>
                <a:latin typeface="Times New Roman"/>
              </a:rPr>
              <a:t>К врачам клинических специальностей относятся: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Arial Unicode MS"/>
              </a:rPr>
              <a:t>акушеры-гинекологи, аллергологи-иммунологи, гастроэнтерологи, гематологи, гериатры, дерматовенерологи, диабетологи, инфекционисты, кардиологи, кардиологи детские, колопроктологи, неврологи, нейрохирурги, неонатологи, нефрологи, общей практики (семейные), онкологи, онкологи детские, оториноларингологи, офтальмологи, педиатры, по рентгенэндоваскулярным диагностике и лечению, профпатологи, психиатры, психиатры-наркологи, пульмонологи, ревматологи, скорой медицинской помощи, терапевты, травматологи и ортопеды, урологи, урологи-андрологи детские, фтизиатры, хирурги, хирурги детские, хирурги пластические, хирурги сердечно-сосудистые, хирурги торакальные, хирурги челюстно-лицевые, эндокринологи, эндокринологи детские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545400" y="380880"/>
            <a:ext cx="33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Таблица 1000 - 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Врачи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0" y="4114800"/>
            <a:ext cx="88390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00"/>
                </a:solidFill>
                <a:uFillTx/>
                <a:latin typeface="Times New Roman"/>
              </a:rPr>
              <a:t>Графа 3</a:t>
            </a:r>
            <a:r>
              <a:rPr b="1" lang="ru-RU" sz="1600" spc="-1" strike="noStrike">
                <a:solidFill>
                  <a:srgbClr val="003300"/>
                </a:solidFill>
                <a:latin typeface="Times New Roman"/>
              </a:rPr>
              <a:t> заполняется  на  основании документов об образовании: дипломов государственного образца об уровне образования, специальности и квалификации, удостоверений о краткосрочном повышении квалификации, свидетельств о повышении квалификации, дипломов о профессиональной переподготовке, удостоверений об окончании интернатуры, удостоверений об окончании клинической ординатуры, документов об окончании аспирантуры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00"/>
                </a:solidFill>
                <a:uFillTx/>
                <a:latin typeface="Times New Roman"/>
              </a:rPr>
              <a:t>Графы 5, 6 и 7</a:t>
            </a:r>
            <a:r>
              <a:rPr b="1" lang="ru-RU" sz="1600" spc="-1" strike="noStrike">
                <a:solidFill>
                  <a:srgbClr val="003300"/>
                </a:solidFill>
                <a:latin typeface="Times New Roman"/>
              </a:rPr>
              <a:t> заполняются на основании удостоверений о присвоении квалификационной категории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00"/>
                </a:solidFill>
                <a:uFillTx/>
                <a:latin typeface="Times New Roman"/>
              </a:rPr>
              <a:t>Графа 8</a:t>
            </a:r>
            <a:r>
              <a:rPr b="1" lang="ru-RU" sz="1600" spc="-1" strike="noStrike">
                <a:solidFill>
                  <a:srgbClr val="003300"/>
                </a:solidFill>
                <a:latin typeface="Times New Roman"/>
              </a:rPr>
              <a:t> заполняются на основании сертификатов специалиста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1" name="Line 121"/>
          <p:cNvSpPr/>
          <p:nvPr/>
        </p:nvSpPr>
        <p:spPr>
          <a:xfrm>
            <a:off x="5734080" y="2600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52280" y="914400"/>
          <a:ext cx="8839440" cy="3065400"/>
        </p:xfrm>
        <a:graphic>
          <a:graphicData uri="http://schemas.openxmlformats.org/drawingml/2006/table">
            <a:tbl>
              <a:tblPr/>
              <a:tblGrid>
                <a:gridCol w="2743200"/>
                <a:gridCol w="381240"/>
                <a:gridCol w="685800"/>
                <a:gridCol w="1295280"/>
                <a:gridCol w="838080"/>
                <a:gridCol w="838440"/>
                <a:gridCol w="914400"/>
                <a:gridCol w="1143000"/>
              </a:tblGrid>
              <a:tr h="5202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 т.ч. на основной работе в организациях по подготовки кадров и НИИ  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Из общего числа врачей  и провизоров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из гр.3)  имеют: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квалификационную категорию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ертификат специалиста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. ВРАЧИ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Число врачей (кроме зубных) на конец года, физических лиц</a:t>
                      </a:r>
                      <a:endParaRPr b="0" lang="en-US" sz="15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   …</a:t>
                      </a: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57200" y="4572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Таблица 1000 - 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Врачи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228600" y="1219320"/>
            <a:ext cx="8610480" cy="42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Врачи и провизоры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, имеющие категории по нескольким специальностям, в </a:t>
            </a:r>
            <a:r>
              <a:rPr b="0" lang="ru-RU" sz="2000" spc="-1" strike="noStrike" u="sng">
                <a:solidFill>
                  <a:srgbClr val="003300"/>
                </a:solidFill>
                <a:uFillTx/>
                <a:latin typeface="Times New Roman"/>
              </a:rPr>
              <a:t>отчете показываются 1 раз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- по основной специальности, поэтому сумма граф 5 + 6 + 7 (квалификационные категории) не должна превышать данные графы 3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3300"/>
                </a:solidFill>
                <a:uFillTx/>
                <a:latin typeface="Times New Roman"/>
              </a:rPr>
              <a:t>В строку 96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включают общее число физических лиц врачей клинических специальностей (перечень клинических специальностей определяется Минздравом России)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00"/>
                </a:solidFill>
                <a:uFillTx/>
                <a:latin typeface="Times New Roman"/>
              </a:rPr>
              <a:t>Врачей интернов, аспирантов и клинических ординаторов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 включают 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в строку 97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анная категория специалистов в строку 01 не включается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710280" y="457200"/>
            <a:ext cx="64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Таблица 1001 – 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Средний медицинский персонал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52280" y="4419720"/>
            <a:ext cx="883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3300"/>
                </a:solidFill>
                <a:uFillTx/>
                <a:latin typeface="Times New Roman"/>
              </a:rPr>
              <a:t>Графа 3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 заполняется  на  основании документов об образовании: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дипломов государственного образца об уровне образования, специальности и квалификации, удостоверений о краткосрочном повышении квалификации, свидетельств о повышении квалификации, дипломов о профессиональной переподготовке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7" name="Line 106"/>
          <p:cNvSpPr/>
          <p:nvPr/>
        </p:nvSpPr>
        <p:spPr>
          <a:xfrm>
            <a:off x="5334120" y="2362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28600" y="990720"/>
          <a:ext cx="8763120" cy="2955960"/>
        </p:xfrm>
        <a:graphic>
          <a:graphicData uri="http://schemas.openxmlformats.org/drawingml/2006/table">
            <a:tbl>
              <a:tblPr/>
              <a:tblGrid>
                <a:gridCol w="3305160"/>
                <a:gridCol w="538200"/>
                <a:gridCol w="785880"/>
                <a:gridCol w="992160"/>
                <a:gridCol w="992160"/>
                <a:gridCol w="992160"/>
                <a:gridCol w="1157400"/>
              </a:tblGrid>
              <a:tr h="5202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редние медицинские и фармацевтические работники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Из общего числа средних медицинских и фармацевтических работников имеют (из гр. 3)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квалификационную категорию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ертификат специалиста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3. СРЕДНИЙ МЕДИЦИНСКИЙ ПЕРСОНАЛ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Число среднего медицинского персонала на конец года, физических лиц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03:44:48Z</dcterms:created>
  <dc:creator>Шиблаков Иван Петрович</dc:creator>
  <dc:description/>
  <dc:language>en-US</dc:language>
  <cp:lastModifiedBy>d.nesvetaylo</cp:lastModifiedBy>
  <dcterms:modified xsi:type="dcterms:W3CDTF">2014-11-26T06:41:12Z</dcterms:modified>
  <cp:revision>4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