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85DE-3343-4E62-95A6-84EF5E54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F094-1206-40E2-9E08-A01E3A57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3BFD-7111-4C3A-9808-E633F696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5089-58F2-48EF-AE94-1F7D4471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468E-4A1F-49CD-B9CF-AFC1A47F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3D5B-9BBF-44DF-8B8C-7F63733C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392-F29B-4AF8-9C5B-20EA7BC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99F2-1A59-4823-B50C-DC4A20EB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E0A7-EEA8-46AF-A358-D45DDA83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8DFD-441A-4B1A-8CB1-8CC738EF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9291-FBD5-443F-AEA8-989A1FB5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B1A1-DF24-462D-B3A9-E29D56E0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094A-2C22-4403-AC66-316CC42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2699-4852-4C03-92D4-85A5688D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CC07-D57D-4D69-90BC-EF265D54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EA0-0DFC-4CC4-A122-E44781B3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F58D-99A6-458C-A16B-2F887DF7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A020-8CBD-44BE-9EC5-2783B98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24F8-C8F1-4953-AA0D-F7C00DCD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937B-E501-4BBF-9591-10985072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6C76-7D78-45C2-9F7F-02BAF504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C5AF-6F3A-4245-A005-EE6C704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4129-1FF8-4F90-8411-C3311CC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557FB-0AAB-435F-B5FC-837DF9A6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DB4-C021-4374-9F72-62D0CEA92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3326-D29C-4F0C-8A60-01C850226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nesvetny@rambler.ru" TargetMode="External"/><Relationship Id="rId2" Type="http://schemas.openxmlformats.org/officeDocument/2006/relationships/hyperlink" Target="mailto:nesvetaylo@mednet.ru" TargetMode="Externa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9051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Форма №47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Сведения о сети и деятельности медицинских организац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19560" y="61722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ветайло Н.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35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отличия при формировании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449568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624320" y="990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120000" y="1066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0" y="236232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3210 – сведения о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ра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олжностя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распределялись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полном объ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4648320" y="2286000"/>
            <a:ext cx="4495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1700 – распределение по врачеб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ям предусмотрено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м медицинским организац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м. Должности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, функционирую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щие в системе ОМС не выдел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0" y="4038480"/>
            <a:ext cx="441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3300 – сведения 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олжностя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ипам медицинских организ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ий делились на два бло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ные и хозрасчетные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495680" y="3962520"/>
            <a:ext cx="4419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1800 – сведения 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олжност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ределяются по типам мед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инских организ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 по Клиникам ВУЗов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И показываются кроме 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жности по организац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лужбам) Роспотребнадзора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здравнадзора в стро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сельская местность»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дел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572000" y="144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1610 –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санаторно-курортные подразделения – новая таб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5335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отличия при формировании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449568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624320" y="990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120000" y="1066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600200"/>
            <a:ext cx="4419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3650 –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лановая мощ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мбулаторно-поликлин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рганизаций показывалас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целом по организац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бъекта и по организац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униципального подч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572000" y="1600200"/>
            <a:ext cx="4419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1900 –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лановая мощ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ечебно-профилакт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дицински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казывается по всем тип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дчиненности медицин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рганизаций (федеральном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бъекта, муниципальном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дельно выделяется план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ощность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бособл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дразделений диспансеро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центров, а также поликлиник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женских консультац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входящих в состав медицин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9"/>
          <p:cNvSpPr/>
          <p:nvPr/>
        </p:nvSpPr>
        <p:spPr>
          <a:xfrm>
            <a:off x="685800" y="1981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сновные прави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аполнения таб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304920" y="3808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1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Лечебно-профилактические медицинские организации, оказывающие медицинскую помощь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в стационарных и амбулаторных условиях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280" y="5105520"/>
            <a:ext cx="868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полняется на основании формы федерального статистического наблюдения № 30,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Times New Roman"/>
              </a:rPr>
              <a:t>включая диспансер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оказывающие медицинскую помощь в стационарных и амбулаторных условиях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(раздел 5 таблица № 0500)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а также включая медицинские организации особого типа, которые имеют лицензии на оказание медицинской помощи в стационарных условиях при наличии иных, не предусмотренных основной деятельностью, видов медицинск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1295280"/>
          <a:ext cx="8763120" cy="3657600"/>
        </p:xfrm>
        <a:graphic>
          <a:graphicData uri="http://schemas.openxmlformats.org/drawingml/2006/table">
            <a:tbl>
              <a:tblPr/>
              <a:tblGrid>
                <a:gridCol w="2819520"/>
                <a:gridCol w="533520"/>
                <a:gridCol w="838080"/>
                <a:gridCol w="1143000"/>
                <a:gridCol w="1066680"/>
                <a:gridCol w="990720"/>
                <a:gridCol w="13716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-з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едераль-ного под-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-нения субъекту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уници-пального подчи-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споло-женных в сельской 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ские,  областные, окружные больниц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04920" y="3808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1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Лечебно-профилактические медицинские организации, оказывающие медицинскую помощь в стационарных и амбулаторных условия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" y="1487520"/>
            <a:ext cx="87631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лица заполняется по медицинским организациям, указанным в пунктах с 1.1 по 1.11 Номенклатуры медицинских организаций, а также в пунктах 1.17 и 2.1 при наличии лицензии на оказание медицинской помощи в стационар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 таблицу не включаются сведения о числе мест и деятельности дневных стацион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исло фактически развернутых коек не включаются койки для новорожденных, развернутые в родильных домах и родильных отделениях; койки для матерей по уходу за детьми в детских больницах и детских отделениях; временные койки (приставные); к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лжностей и физических лиц врачей, а также число должностей среднего медицинского персонала в целом по организации указывается с учетом всех структурных подразделений (филиалов), входящих в состав медицинской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04920" y="3808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1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Лечебно-профилактические медицинские организации, оказывающие медицинскую помощь в стационарных и амбулаторных условия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5334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едения о сети и деятельности Клиник НИИ и ВУЗов показываются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кроме т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в итоговую строку (строка 42) не вход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1371600"/>
          <a:ext cx="8915400" cy="3735360"/>
        </p:xfrm>
        <a:graphic>
          <a:graphicData uri="http://schemas.openxmlformats.org/drawingml/2006/table">
            <a:tbl>
              <a:tblPr/>
              <a:tblGrid>
                <a:gridCol w="4114800"/>
                <a:gridCol w="457200"/>
                <a:gridCol w="762120"/>
                <a:gridCol w="914400"/>
                <a:gridCol w="762120"/>
                <a:gridCol w="914400"/>
                <a:gridCol w="990360"/>
              </a:tblGrid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-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-ного под-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-нения субъекту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-пального подчи-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-женных в сельской 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пансеры, оказывающие медицинскую помощь 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расчетные медицински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, 18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7, 39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1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80880" y="3808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1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Лечебно-профилактические медицинские организации, оказывающие медицинскую помощь в стационарных и амбулаторных условия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52280" y="1447920"/>
            <a:ext cx="883944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графе 3 указывается число медицинских организаций – юридических лиц, действующих на 31 декабря  отчетного года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В графах с 4 по 6 чис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дицинских организаций распределяется в зависимости от подчинения (федерального, субъекту Российской Федерации, муниципального)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Графа 3 должна равняться сумме граф с 4 по 6 по соответствующим стро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афы с 8 по 12 заполняются на основании формы федерального статистического наблюдения №30 (далее форма №30), таблица 3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Графа 13 заполняется на основании формы №30, таблицы 2100, то есть, включает число амбулаторных посещений к врачам, а также число посещений в отделения (кабинеты) платных услуг,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без учета посещений к стоматологам и зубным врача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исло посещений врачами на дому показывается в графе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графах 15-16, 19, 20-21 показывается число должностей и физических лиц врачей или среднего медицинского персонала в целом по организации не зависимо от ее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3808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1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Лечебно-профилактические медицинские организации, оказывающие медицинскую помощь в стационарных и амбулаторных условия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1295280"/>
            <a:ext cx="883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17, 18, 22, 23, из общего числа должностей в целом по организации, показывается число должностей врачей и среднего медицинского персонала, занятых в поликлинике, амбулатории, женской консультации, цент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графе 24 показывается число входящих в состав медицинских организаций, оказывающих стационарную и амбулаторную помощь, структурных подразделений (поликлиник, амбулаторий женских консультаций, центров). Число ФАПов, ФП, отделений (центров) врачей общеврачебных практик в таблице не указываются. Структурные подразделения, расположенные в сельской местности, указываются в графе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ки с 1 по 43 заполняется по медицинским организациям – юридическим лицам, функционирующим в течении отчетного года. По организациям, закрытым в течение отчетного года, в соответствующие строки таблицы включаются только показатели их деятельности: число посещений, поступивших пациентов, среднегодовое число коек и др., сама организация, как единица учета,  а также число коек на конец отчетного года, число должностей и физических лиц врачей, среднего медицинского персонала не показыв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80880" y="3808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1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Лечебно-профилактические медицинские организации, оказывающие медицинскую помощь в стационарных и амбулаторных условия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1365120"/>
            <a:ext cx="9144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ведения по строке 6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«Специализированные больницы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лжны быть равны сумме строк с 7 по 17, так как перечень специализированных больниц полностью соответствует номенклатуре медицинских организаций, утвержденной приказом от 06.08.2013 г. № 529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ведения по строке 27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«Центры всего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олжны быть равны сумме строк с 28 по 38, так как перечень специализированных центров полностью соответствует номенклатуре медицинских организаций, утвержденной приказом от 06.08.2013 г. № 529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трока 39 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испансеры, оказывающие медицинскую помощь в стационарных условиях» заполняется только по диспансерам, оказывающим медицинскую помощь в стационарных условиях, без учета деятельности дневных стационаров. То есть, по диспансерам, указанным в таблице 0500 «Сведения о диспансерах» в графе 5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испансеры, оказывающие медицинскую помощь только в амбулаторных условиях, таблицу 0100 не заполн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Строка 4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Хозрасчетные медицинские организации» заполняется по организациям, оказывающим медицинскую помощь в стационарных условиях, то есть хозрасчетные медицинские организации, оказывающие медицинскую помощь только в амбулаторных условиях, в таблице 0100 не указы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80880" y="3808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2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«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Распределение лечебно-профилактических медицинских организаций, оказывающих медицинскую помощь в стационарных условиях по числу коек, за исключением санаторно-курортных организаций (подразделений)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»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57200" y="1905120"/>
            <a:ext cx="815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аблице распределяются все медицинские организации, являющиеся юридическими  лицами и действующие на 31 декабря  отчетного года вне зависимости от подчинения (федерального, субъекту Российской Федерации, муниципального). Медицинские организации, прекратившие свою деятельность по состоянию на 31 декабря отчетного года, в таблицу не включ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пределение медицинских организаций по числу коек должно проходить на основании данных графы 8 «Число коек (фактически развернутых + свернутых на ремонт)» таблицы 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ка 1 должна быть равна сумме строк со 2 по 15 по всем граф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1617840" y="609480"/>
            <a:ext cx="58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ые правила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04920" y="1523880"/>
            <a:ext cx="853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Форму включаются свед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о всех без исклю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дицинских организациях системы Минздрава России (являющихся юридическими  лицами), действующих на 31 декабря  отчетного года и находящихся на территории субъекта Российской Федерации вне зависимости от подчинения (федерального, субъекту Российской Федерации, муниципальног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Органы исполнительной власти субъекта Российской Федерации в сфере охраны здоровья населения отчет по Форме составляют на основании сведений медицинских организаций, учебных и научно-исследовательских организаций федерального, субъекту Российской Федерации и муниципального подчинения по формам федерального и отраслевого статистического наблюдения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Times New Roman"/>
              </a:rPr>
              <a:t>№№ 30, 41, 42, 43,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80880" y="533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3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Отделения для инвалидов, участников и ветеранов войн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4191120"/>
            <a:ext cx="87631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афы 3 «Число отделений» и 4 «Число коек в них» заполняются по состоянию на конец отчетного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 отсутствии соответствующего отделения, но при наличии отдельных коек для данной категории населения в отделениях круглосуточного стационара, заполняются только графы с 4 по 6 с пояснительной запи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280" y="1219320"/>
          <a:ext cx="8763120" cy="2743200"/>
        </p:xfrm>
        <a:graphic>
          <a:graphicData uri="http://schemas.openxmlformats.org/drawingml/2006/table">
            <a:tbl>
              <a:tblPr/>
              <a:tblGrid>
                <a:gridCol w="3652920"/>
                <a:gridCol w="817560"/>
                <a:gridCol w="1123920"/>
                <a:gridCol w="844560"/>
                <a:gridCol w="1098720"/>
                <a:gridCol w="122544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тд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х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: краевых, республиканских, областных, окружных больниц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изац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80880" y="457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4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Станции и отделения скорой медицинской помощ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4724280"/>
            <a:ext cx="8991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полняется на основании формы федерального статистического наблюдения №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 станциям и отделениям скорой медицинской помощи, закрытым в течение отчетного года, в таблицу включаются только показатели их деятельности: число выполненных выездов, число лиц, которым оказана скорая медицинская помощь, сама станция или отделение скорой медицинской помощи, как единица учета не показыв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320" y="914400"/>
          <a:ext cx="8915400" cy="3782880"/>
        </p:xfrm>
        <a:graphic>
          <a:graphicData uri="http://schemas.openxmlformats.org/drawingml/2006/table">
            <a:tbl>
              <a:tblPr/>
              <a:tblGrid>
                <a:gridCol w="2536560"/>
                <a:gridCol w="384480"/>
                <a:gridCol w="998280"/>
                <a:gridCol w="335160"/>
                <a:gridCol w="893520"/>
                <a:gridCol w="1078200"/>
                <a:gridCol w="1523880"/>
                <a:gridCol w="116532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и отдел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-ненных выезд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связи с перевозкой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помощь амбулаторно и при выез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госпитали-зированных ли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-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танций и отделени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: городских больниц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80880" y="3808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45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Центры, станции и отделения переливания кров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04920" y="4876920"/>
            <a:ext cx="86104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полняется на основании формы федерального статистического наблюдения №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станциям (центрам крови) и отделениям переливания крови, закрытым в течение отчетного года, в таблицу включаются только показатели их деятельности: число пациентов, число переливаний крови и т.д., сама станция (центр крови) или отделение переливания крови, как единица учета не показыва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0"/>
          <p:cNvSpPr/>
          <p:nvPr/>
        </p:nvSpPr>
        <p:spPr>
          <a:xfrm>
            <a:off x="3645000" y="1398600"/>
            <a:ext cx="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838080"/>
          <a:ext cx="8991720" cy="3627720"/>
        </p:xfrm>
        <a:graphic>
          <a:graphicData uri="http://schemas.openxmlformats.org/drawingml/2006/table">
            <a:tbl>
              <a:tblPr/>
              <a:tblGrid>
                <a:gridCol w="2438280"/>
                <a:gridCol w="435240"/>
                <a:gridCol w="909360"/>
                <a:gridCol w="868320"/>
                <a:gridCol w="1116360"/>
                <a:gridCol w="1074600"/>
                <a:gridCol w="1012680"/>
                <a:gridCol w="1136880"/>
              </a:tblGrid>
              <a:tr h="641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крови, станции и отделения перели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сделано пере-ливание кро-ви и крове-заменяющих жидк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ереливаний крови и кровеза-меняющих жидк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то крови и кровезаменяющих жидкостей, лит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у которых наблюдались осложнения после перели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-те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ящие в состав других органи-заций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Центров крови, станций и отделений переливаний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 краевых, ….. больниц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80880" y="3808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5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Сведения о диспансера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8600" y="5181480"/>
            <a:ext cx="86868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таблицу включаются сведения о сети, деятельности и должностях врачей диспансеров, оказывающих медицинскую помощь в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амбулаторных и стационарных услов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едения в графах с 9 по 16, 19-22, 25 заполняются на основании таблицы 0100, строки 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762120"/>
          <a:ext cx="9067680" cy="4022640"/>
        </p:xfrm>
        <a:graphic>
          <a:graphicData uri="http://schemas.openxmlformats.org/drawingml/2006/table">
            <a:tbl>
              <a:tblPr/>
              <a:tblGrid>
                <a:gridCol w="2438280"/>
                <a:gridCol w="373320"/>
                <a:gridCol w="669960"/>
                <a:gridCol w="917280"/>
                <a:gridCol w="1243080"/>
                <a:gridCol w="1216080"/>
                <a:gridCol w="1521000"/>
                <a:gridCol w="688680"/>
              </a:tblGrid>
              <a:tr h="291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испансер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-заций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(без посещений к стоматологам и зубным врачам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-щений 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-женных в сельской мест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щих отделения, оказывающие медицинскую помощь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щих отделения, оказывающие медицинскую помощь 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о-физкульту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крин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-9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ы по подчиненности (из стр 10): 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80880" y="457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5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Сведения о диспансе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80880" y="1295280"/>
            <a:ext cx="85345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афы с 3 по 6 заполняются по типам диспансеров соответствующим номенклатуре медицинских организаций, утвержденной приказом Минздрава России от 06.08.2013 г. № 529н и действующих по состоянию на 31 декабря отчетного года.  По диспансерам, закрытым в течение отчетного года, включаются только показатели их деятельности: число посещений, поступивших пациентов, среднегодовое число коек и др., сам диспансер, как единица учета не показыв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Графа 7 заполняетс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основании формы №30, таблицы 2100, то есть, включает число амбулаторных посещений к врачам, а также число посещений в отделения (кабинеты) платных услуг, без учета посещений к стоматологам и зубным врач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исло посещений врачами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на дому показывается в графе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афы с 9 по 16 заполняются на основании формы федерального статистического наблюдения №30 (далее форма №30), таблица 31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80880" y="380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600</a:t>
            </a: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  «</a:t>
            </a: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Лечебно-профилактические медицинские организации, оказывающие медицинскую помощь в амбулаторных условиях: амбулатории, поликлиники, женские консультации, диспансеры, центры и организации особого типа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Times New Roman"/>
              </a:rPr>
              <a:t>(за исключением стоматологических поликлиник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510552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едения заполняются при наличии лицензии на оказание амбулаторной помо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1600200"/>
          <a:ext cx="8686800" cy="2712960"/>
        </p:xfrm>
        <a:graphic>
          <a:graphicData uri="http://schemas.openxmlformats.org/drawingml/2006/table">
            <a:tbl>
              <a:tblPr/>
              <a:tblGrid>
                <a:gridCol w="1484280"/>
                <a:gridCol w="371520"/>
                <a:gridCol w="743040"/>
                <a:gridCol w="815760"/>
                <a:gridCol w="817560"/>
                <a:gridCol w="965160"/>
                <a:gridCol w="2673360"/>
                <a:gridCol w="81612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-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(без посещений к стоматоло-гам и зубным врачам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-щений 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-ного подчи-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-нения субъекта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-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80880" y="380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600</a:t>
            </a: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  «</a:t>
            </a: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Лечебно-профилактические медицинские организации, оказывающие медицинскую помощь в амбулаторных условиях: амбулатории, поликлиники, женские консультации, диспансеры, центры и организации особого типа </a:t>
            </a:r>
            <a:r>
              <a:rPr b="0" lang="en-US" sz="1800" spc="-1" strike="noStrike" u="sng">
                <a:solidFill>
                  <a:srgbClr val="993366"/>
                </a:solidFill>
                <a:uFillTx/>
                <a:latin typeface="Times New Roman"/>
              </a:rPr>
              <a:t>(за исключением стоматологических поликлиник</a:t>
            </a: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)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4952880"/>
            <a:ext cx="9144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Указываются посещения среднего медицинского персонала на самостоятельном приеме в амбулаторно-поликлинических организациях, на врачебных и фельдшерских здравпунктах, ФАПах, фельдшерских пунктах. Посещения к среднему медицинскому персоналу учитываются при условии осуществления </a:t>
            </a:r>
            <a:r>
              <a:rPr b="1" lang="ru-RU" sz="1500" spc="-1" strike="noStrike">
                <a:solidFill>
                  <a:srgbClr val="ff3300"/>
                </a:solidFill>
                <a:latin typeface="Times New Roman"/>
              </a:rPr>
              <a:t>самостоятельного амбулаторного прием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: фельдшерами, акушерками, в смотровых кабинетах, в кабинетах доврачебного приема, кабинетах неотложной помощи, патронажными сестр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280" y="1523880"/>
          <a:ext cx="8915400" cy="3038760"/>
        </p:xfrm>
        <a:graphic>
          <a:graphicData uri="http://schemas.openxmlformats.org/drawingml/2006/table">
            <a:tbl>
              <a:tblPr/>
              <a:tblGrid>
                <a:gridCol w="3276720"/>
                <a:gridCol w="457200"/>
                <a:gridCol w="914400"/>
                <a:gridCol w="838080"/>
                <a:gridCol w="1828800"/>
                <a:gridCol w="1343160"/>
                <a:gridCol w="25704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рачей (без зубны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врачей основных работников на занятых должност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ний к среднему медперсон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, 19-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80880" y="3808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6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 «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Лечебно-профилактические медицинские организации, оказывающие медицинскую помощь в амбулаторных условиях: амбулатории, поликлиники, женские консультации, диспансеры, центры и организации особого тип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04920" y="1752480"/>
            <a:ext cx="86868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яется на основании формы №30, таблицы 2100 по организациям, оказывающим только амбулаторную помощь, и включает число амбулаторных посещений к врачам, а также число посещений в отделения (кабинеты) платных услуг без учета посещений к стоматологам и зубным вр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ещений врачами на дому показывается в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рафе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80880" y="380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600</a:t>
            </a: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  «</a:t>
            </a:r>
            <a:r>
              <a:rPr b="0" lang="en-US" sz="1800" spc="-1" strike="noStrike">
                <a:solidFill>
                  <a:srgbClr val="993366"/>
                </a:solidFill>
                <a:latin typeface="Times New Roman"/>
              </a:rPr>
              <a:t>Лечебно-профилактические медицинские организации, оказывающие медицинскую помощь в амбулаторных условиях: амбулатории, поликлиники, женские консультации, диспансеры, центры и организации особого типа (за исключением стоматологических поликлиник)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28600" y="52578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фы с 17 по 26 заполняются по структурным подразделениям и филиалам медицинских организаций, оказывающих медицинскую помощь только в амбулаторных услов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320" y="1752480"/>
          <a:ext cx="8991360" cy="3468960"/>
        </p:xfrm>
        <a:graphic>
          <a:graphicData uri="http://schemas.openxmlformats.org/drawingml/2006/table">
            <a:tbl>
              <a:tblPr/>
              <a:tblGrid>
                <a:gridCol w="1447560"/>
                <a:gridCol w="381240"/>
                <a:gridCol w="685800"/>
                <a:gridCol w="685800"/>
                <a:gridCol w="685800"/>
                <a:gridCol w="685800"/>
                <a:gridCol w="609480"/>
                <a:gridCol w="685800"/>
                <a:gridCol w="762120"/>
                <a:gridCol w="914400"/>
                <a:gridCol w="914400"/>
                <a:gridCol w="5331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ящие подразделения, фил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-лато-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-кли-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-кие поли-кли-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-кие кон-суль-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-нос-тичес-кие цент-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-ры (отде-ления) В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-пункты врачеб-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здоровья 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здоровья дет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-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умма строк 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, 19-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80880" y="3808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6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 «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Лечебно-профилактические медицинские организации, оказывающие медицинскую помощь в амбулаторных условиях: амбулатории, поликлиники, женские консультации, диспансеры, центры и организации особого тип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1828800"/>
            <a:ext cx="8686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блица должна включать посещения, показанные в таблице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500 «Сведения о диспансерах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троке 6 «Диспансеры» число посещений по графам 8 и 9 может быть меньше числа посещений  по графам 7, 8 строки 10 таблицы 0500 за счет посещений в диспансеры, которые оказывают стационарную и амбулатор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едения по строке 7 «Центры всего» должны быть равны сумме строк с 8 по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едения по строке 21 «Итого» должны быть равны сумме строк с 1 по 7, 19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617840" y="457200"/>
            <a:ext cx="58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ые правила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2280" y="1219320"/>
            <a:ext cx="87631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По сезонным организациям  (санатории, санатории-профилактории и др.) показываются сведения о числе организаций, работавших в течение года, сведения о койках и штатах сезонных организаций да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 состоянию на месяц  (день)  их максимального разверт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По организациям, закрытым в течение отчетного года, в соответствующие таблицы Формы включаются только показатели их деятельности: число посещений, поступивших пациентов, среднегодовое число коек и др.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ама организация, как единица учета не пок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бюджетным организациям, оказывающим платную медицинскую помощь, сведения показываются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по организа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Медицинские организации, имеющие филиалы, составляют отчет по Форме по организации в целом и представляют его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по месту регистрации юридического лица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80880" y="3808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700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 «Коечный фонд лечебно-профилактических медицинских организаций, оказывающих медицинскую помощь в стационарных условиях, по типам организаций (за исключением санаторно-курортных организаций (подразделений))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51814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аблице показываются сведения о коечном фонде всех медицинских организаций на 31 декабря  отчетного года по типам медицинских организаций. Коечный фонд должен соответствовать перечню и числу коек, указанному в форме федерального статистического наблюдения № 30 таблица 31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2280" y="1676520"/>
          <a:ext cx="8839440" cy="3398760"/>
        </p:xfrm>
        <a:graphic>
          <a:graphicData uri="http://schemas.openxmlformats.org/drawingml/2006/table">
            <a:tbl>
              <a:tblPr/>
              <a:tblGrid>
                <a:gridCol w="1862280"/>
                <a:gridCol w="500040"/>
                <a:gridCol w="1447920"/>
                <a:gridCol w="1523880"/>
                <a:gridCol w="1066680"/>
                <a:gridCol w="990720"/>
                <a:gridCol w="1066680"/>
                <a:gridCol w="3812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CYR"/>
                          <a:ea typeface="Arial"/>
                        </a:rPr>
                        <a:t>Специализация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по типам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-публиканские, областные, окружные больницы (таб.0100,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  (таб.0100, стр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(таб. 0100, стр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городские больницы (таб.0100, стр.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-лизи-рованные больницы, (таб.0100, стр.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0880" y="3808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8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Общее число врачебных посещений, включая посещения к зубным врачам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0" y="56386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таблице показываются сведения об общем количестве посещений, сделанных населением к врачам во все медицинские организации, оказывающие медицинскую помощь в амбулаторных условиях, на приеме и на дому, включая посещения к стоматологам и зубным врачам, а также платные посещ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68"/>
          <p:cNvSpPr/>
          <p:nvPr/>
        </p:nvSpPr>
        <p:spPr>
          <a:xfrm>
            <a:off x="5092560" y="1682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16"/>
          <p:cNvSpPr/>
          <p:nvPr/>
        </p:nvSpPr>
        <p:spPr>
          <a:xfrm>
            <a:off x="5295960" y="1674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62"/>
          <p:cNvSpPr/>
          <p:nvPr/>
        </p:nvSpPr>
        <p:spPr>
          <a:xfrm>
            <a:off x="5187960" y="151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903"/>
          <p:cNvSpPr/>
          <p:nvPr/>
        </p:nvSpPr>
        <p:spPr>
          <a:xfrm>
            <a:off x="5353200" y="151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280" y="1066680"/>
          <a:ext cx="8839440" cy="4449960"/>
        </p:xfrm>
        <a:graphic>
          <a:graphicData uri="http://schemas.openxmlformats.org/drawingml/2006/table">
            <a:tbl>
              <a:tblPr/>
              <a:tblGrid>
                <a:gridCol w="3124440"/>
                <a:gridCol w="457200"/>
                <a:gridCol w="820440"/>
                <a:gridCol w="949680"/>
                <a:gridCol w="612720"/>
                <a:gridCol w="809640"/>
                <a:gridCol w="752400"/>
                <a:gridCol w="627120"/>
                <a:gridCol w="685800"/>
              </a:tblGrid>
              <a:tr h="52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вболе-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-лакти-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-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-кими жите-ля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-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подразделения, оказывающие медицинскую помощь в амбулаторных условиях (входящие подраздел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- 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80880" y="3808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08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Общее число врачебных посещений, включая посещения к зубным врачам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2280" y="1143000"/>
            <a:ext cx="87631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к как, таблица заполняется на основании формы №30 таблица 2100, то в графу 6 «по поводу заболевания» следует включать сведения указанные в форме №30 таблице 2100 сумма граф 6, 7, 10 по строке 1. Графа 9 «сельскими жителями» по строке «Итого» должна быть равна сумме граф 4 и 9 по строке 1 таблицы 2100 формы №3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афа 3 должна быть равна сумме граф 4 и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а 7 «профилактические» должна быть равна разнице граф 3 и 6 таблицы 0800 (графа 3 - графа 6) по всем строкам. Графа 8 «Платные» и графа 9 «сельскими жителями» в таблице указываются из графы 3 «Всего» по всем стро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блица должна включать посещения, показанные в таблицах 0100, 0600 и 1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533520" y="380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1100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«Наличие в лечебно-профилактических медицинских организациях вспомогательных подразделений, отделов, отделений, кабинет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8600" y="5867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аполняется на основании формы федерального статистического наблюдения № 30 таблица 1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447920"/>
          <a:ext cx="8686800" cy="4236840"/>
        </p:xfrm>
        <a:graphic>
          <a:graphicData uri="http://schemas.openxmlformats.org/drawingml/2006/table">
            <a:tbl>
              <a:tblPr/>
              <a:tblGrid>
                <a:gridCol w="2498760"/>
                <a:gridCol w="449280"/>
                <a:gridCol w="917640"/>
                <a:gridCol w="1562040"/>
                <a:gridCol w="1520640"/>
                <a:gridCol w="1095480"/>
                <a:gridCol w="64296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 подразделений, отделов, отделений, кабин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, отделы, отделения, кабинеты в медицинских организациях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(таб.0100,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  (таб.0100, стр.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(таб. 0100, стр.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диали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сорб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барический оксиге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533520" y="4572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1100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«Наличие в лечебно-профилактических медицинских организациях вспомогательных подразделений, отделов, отделений, кабинет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04920" y="1600200"/>
            <a:ext cx="85341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«Кабинет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указывается, если он организован как самостоятельна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уктурная единица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в обособленных структурных подразделениях наличие кабинета (отделения, отдела, отделения),  также указывается в соответствии со штатным расписа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ичие отделений, кабинетов, лабораторий, подразделений указывается в отчете в том случае, когда име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выделенное для них помещ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аппаратура и оборудо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лжности  соответствующих  специалистов (врачей и сред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дицинского персонала)  в  штатных расписаниях организац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изводится соответствующая работа, осуществляется учет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становлен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457200" y="380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1200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«Техническое состояние зданий медицинских организаци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0" y="4572000"/>
            <a:ext cx="899172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держит сведения о техническом состоянии зданий медицинских организаций по типам медицинских организаций и должна соответствовать таблице 8000 формы федерального статистического наблюдения № 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графе 3 число медицинских организаций должно быть равно числу медицинских организаций, указанному в графах 3 таблиц 0100, 0400, 0450, 0500, 0600, 1300, 1500, 1600  по соответствующим строк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9"/>
          <p:cNvSpPr/>
          <p:nvPr/>
        </p:nvSpPr>
        <p:spPr>
          <a:xfrm>
            <a:off x="5711760" y="2100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66680"/>
          <a:ext cx="8991720" cy="3461040"/>
        </p:xfrm>
        <a:graphic>
          <a:graphicData uri="http://schemas.openxmlformats.org/drawingml/2006/table">
            <a:tbl>
              <a:tblPr/>
              <a:tblGrid>
                <a:gridCol w="2679840"/>
                <a:gridCol w="511200"/>
                <a:gridCol w="987120"/>
                <a:gridCol w="857520"/>
                <a:gridCol w="1339560"/>
                <a:gridCol w="920880"/>
                <a:gridCol w="1238400"/>
                <a:gridCol w="45720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Название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ст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-ских органи-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-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3808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</a:t>
            </a: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аблица 1700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«Врачебные должности и физические лица врачей в медицинских организация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0" y="5715000"/>
            <a:ext cx="899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ормируется на основании формы федерального статистического наблюдения № 30 по штатным, занятым должностям и физическим лицам врачей по специальностям в разрезе медицинских организаций по подчин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6"/>
          <p:cNvSpPr/>
          <p:nvPr/>
        </p:nvSpPr>
        <p:spPr>
          <a:xfrm>
            <a:off x="412740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4"/>
          <p:cNvSpPr/>
          <p:nvPr/>
        </p:nvSpPr>
        <p:spPr>
          <a:xfrm>
            <a:off x="4127400" y="163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5"/>
          <p:cNvSpPr/>
          <p:nvPr/>
        </p:nvSpPr>
        <p:spPr>
          <a:xfrm>
            <a:off x="412740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1066680"/>
          <a:ext cx="8763120" cy="4511880"/>
        </p:xfrm>
        <a:graphic>
          <a:graphicData uri="http://schemas.openxmlformats.org/drawingml/2006/table">
            <a:tbl>
              <a:tblPr/>
              <a:tblGrid>
                <a:gridCol w="2448000"/>
                <a:gridCol w="417600"/>
                <a:gridCol w="817560"/>
                <a:gridCol w="865080"/>
                <a:gridCol w="755640"/>
                <a:gridCol w="858960"/>
                <a:gridCol w="1152360"/>
                <a:gridCol w="1066680"/>
                <a:gridCol w="381240"/>
              </a:tblGrid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ликли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-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-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целом по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ликли-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пециалисты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и организаций и их замест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х них:  акушеры-гинекологи цеховых участ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380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18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Штатные и  занятые должности,  физические лица по типам медицинских организаци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0" y="54864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заполняется на основании формы № 30 таблицы 11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оме того, в таблице указываются должности и физические лица организаций Роспотребназора, Клиник ВУЗов и 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6320" y="1066680"/>
          <a:ext cx="8839080" cy="4233960"/>
        </p:xfrm>
        <a:graphic>
          <a:graphicData uri="http://schemas.openxmlformats.org/drawingml/2006/table">
            <a:tbl>
              <a:tblPr/>
              <a:tblGrid>
                <a:gridCol w="4895640"/>
                <a:gridCol w="381240"/>
                <a:gridCol w="969840"/>
                <a:gridCol w="1068480"/>
                <a:gridCol w="990360"/>
                <a:gridCol w="5335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(кроме специализированных больниц, родильных домов,  хосписов, диспансеров, центров,  и хозрасчетных  организаций, оказывающих помощь в стационарных условия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умма строк 1-2, 4-10, 16-19, 25, 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 и их структурных подразделениях (филиалах), 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роме того</a:t>
                      </a: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дицинские организации (службы) Роспотребнадзор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линики ВУЗов и НИ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04920" y="38088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993366"/>
                </a:solidFill>
                <a:uFillTx/>
                <a:latin typeface="Times New Roman"/>
              </a:rPr>
              <a:t>Таблица 1900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«Плановая мощность лечебно-профилактических медицинских организаций</a:t>
            </a: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993366"/>
                </a:solidFill>
                <a:latin typeface="Times New Roman"/>
              </a:rPr>
              <a:t>оказывающих медицинскую помощь в амбулаторных услов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0" y="579132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лица заполняется на основании формы федерального статистического наблюдения № 30  таблица 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320" y="1447920"/>
          <a:ext cx="8762760" cy="4297320"/>
        </p:xfrm>
        <a:graphic>
          <a:graphicData uri="http://schemas.openxmlformats.org/drawingml/2006/table">
            <a:tbl>
              <a:tblPr/>
              <a:tblGrid>
                <a:gridCol w="3654360"/>
                <a:gridCol w="530280"/>
                <a:gridCol w="1834920"/>
                <a:gridCol w="2438640"/>
                <a:gridCol w="3045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-канские, областные, окруж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областные, окруж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организаций (е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ая мощность в  них (посещений в смен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й: 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ая мощность в них (посещений в смен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ая мощность в них (посещений в смен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ая мощность в  них (посещений в смену)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2"/>
          <p:cNvSpPr/>
          <p:nvPr/>
        </p:nvSpPr>
        <p:spPr>
          <a:xfrm>
            <a:off x="5329080" y="2486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992240" y="1765440"/>
            <a:ext cx="71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0880" y="685800"/>
            <a:ext cx="85345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При подготовки отчета рекомендов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ступать к заполнению формы №47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только после завершения  подготовки всех  необходимых  отчетных ф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вечать за форму должен один специалис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врач-статистик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с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 приеме отчетов необходимо запросить Устав медицинской организации (Три первых листа), лицензии (протоколы) на исполнительные ад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ведение жесткого контроля изменения сети медицин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й  субъектов, с подтверждением закрытия и откр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дицински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Бумажные носители должны строго соответствовать требова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Распечатать  только  программы МЕДС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сновные правила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1295280"/>
            <a:ext cx="87631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Сведения о числе посещений и проведенных пациентами койко-дне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ываются в единицах, абсолют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Сведения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о числе среднегодовых коек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показываются в целых чис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аблицах Формы в соответствующих графах показываются сведения о числе врачей - физических лиц на занятых должностях основных работников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рудовые книжки которых находятся в дан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аблицах Формы медицинские организации распределяются согласно номенклатуре медицинских организаций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твержденной приказом Минздрава России от 06.08.2013 г. № 529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66"/>
                </a:solidFill>
                <a:uFillTx/>
                <a:latin typeface="Arial"/>
                <a:hlinkClick r:id="rId1"/>
              </a:rPr>
              <a:t>nesvetny@rambler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66"/>
                </a:solidFill>
                <a:uFillTx/>
                <a:latin typeface="Arial"/>
                <a:hlinkClick r:id="rId2"/>
              </a:rPr>
              <a:t>nesvetaylo@medn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ор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240" y="17521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Форма №47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Сведения о сети и деятельности медицинских организац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комендован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143000"/>
            <a:ext cx="876312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оменклатура медицинских организац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истерства здравоохранения Российской Федерации от 06.08.2013 N 529н "Об утверждении номенклатуры медицинских организ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арегистрировано в Минюсте России 13.09.2013 N 29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оменклатура кое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каз Минздравсоцразвития России от 17.05.2012 N 555н "Об утверждении номенклатуры коечного фонда по профилям медицинской помощ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04.06.2012 N 244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оменклатура должнос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инистерства здравоохранения Российской Федерации от 20.12.2012 N 1183н "Об утверждении номенклатуры должностей медицинских и фармацевтических работ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арегистрировано в Минюсте России 10.03.2013 N 27723), с изменениями на 01.08.2014 года (Приказ Минздрава России №420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Штатные  расписания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бщероссийский классификатор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единиц изме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отличия при формировании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41972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624320" y="990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20000" y="990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0" y="1447920"/>
            <a:ext cx="441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0100 –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больничные организаци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б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испансеров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собого типа, оказыв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мощь в стационар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словия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419720" y="1371600"/>
            <a:ext cx="472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0100 –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лечебно-профил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рганизации, оказыва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мощь в стационарны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мбулаторных условиях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включ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испансеры и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собого типа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304812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0600 – сведения о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корой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целом по субъекту РФ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419720" y="304812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0400 – сведения о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корой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спределены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 тип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медицински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субъекта РФ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0" y="457200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0500 – сведения о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танций (отдел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ливания кров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в целом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бъекту РФ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4419720" y="457200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0450 – сведения о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танций (отделений) перел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ров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еделены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о тип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медицински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убъекта РФ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5335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отличия при формировании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449568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24320" y="990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120000" y="1066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0" y="160020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072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диспансера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казывало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лько числ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ачей и среднего медицин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572000" y="160020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0500 –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диспансе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казывается число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олжност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ом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о организации, врач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реднего и младш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мед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0" y="304812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09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амостоятельны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мбул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орно-поликлин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и (без диспансеров и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аций особого типа)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95680" y="2971800"/>
            <a:ext cx="4419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06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едицинские организ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казывающие помощь в амбу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торных условиях,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ключ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испансеры, организации особо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ипа, указывается число входящих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остав подраз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(филиалов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ключены посещения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реднему медицинскому перс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алу в этих организац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495680" y="56386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0650 –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невные стационары по типам медицинских организаций – новая таб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228600" y="5410080"/>
            <a:ext cx="42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ых стационаров не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35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отличия при формировании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449568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624320" y="990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20000" y="1066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0" y="320040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1500 – указывались сведения о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м числе вра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сещ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о типам подчинен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и медицинских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495680" y="3124080"/>
            <a:ext cx="4419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0800 – указываются сведения о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м числе вра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сещ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ипам медицин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их организаций, с выдел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числа посещений по целя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латных пос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0" y="487692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1600 – указывались сведения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исле ФАПов и ФП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число пос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щений в них, с выдел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ещений по 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495680" y="487692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0900 – указывается число пос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 ФАПах и ФП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сег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, б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указания числа посещений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0" y="152388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1110 – указывались сведения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еятельности коечного фо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ечебно-профилакт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572000" y="152388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0700 – указываются сведения только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исле кое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типам медицин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рганизаций, за исклю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анаторно-курортных организ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ций (подразделений)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335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отличия при формировании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4495680" y="12193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624320" y="990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20000" y="1066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0" y="3276720"/>
            <a:ext cx="441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1710 – сведения 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стоянии з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ывались толь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льничным, самостояте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входящим в состав поликл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4572000" y="3276720"/>
            <a:ext cx="441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1200 – сведения 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стоянии з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полняютс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сем тип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едицинских организа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ключая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оспотребнадз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0" y="4876920"/>
            <a:ext cx="44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2401 – сведения о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омах ребенк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казывались в целом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убъек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4572000" y="487692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1500 – сведения о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омах ребенк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казываются по субъекту и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типам подчин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0" y="1600200"/>
            <a:ext cx="4419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. 1800 – сведения 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томатологичес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м обслуживан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указыв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сь только в части сведений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е медицинских организ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ий и выполненных в них пос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щ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4572000" y="1523880"/>
            <a:ext cx="4419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аб. 1000 – в сведениях о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томатолог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еской помощ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указ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едения о числе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рганизац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сещениях и ряд показ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еятельности из формы №3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таб. 2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Nesvetailo</cp:lastModifiedBy>
  <dcterms:modified xsi:type="dcterms:W3CDTF">2014-11-25T20:25:20Z</dcterms:modified>
  <cp:revision>5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