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jpeg" ContentType="image/jpe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421D-87B4-4847-A3C9-B2500B5AD2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8382-ACC4-45C6-83A9-89B60CAE9A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9DA6-71E0-44DE-9A8B-800FA28C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80F-D07A-4C4F-9955-68D89272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C91C-C305-4A56-A0A8-037C6D7D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78A-4FF9-4A5E-ABA2-F9464724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3A78-4683-4548-BADF-C02654B7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CB3B-B9BB-4393-8A4B-B5B3177B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373-62BF-47B8-B204-2094DACF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26DF-7F41-4B04-A6D2-E1051BBE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68EA-B810-4119-9E5F-59FE4C26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52A-C5C8-46FF-A0D3-683EB359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6D5-4350-4DD1-B291-795FCBA9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B14-9A0E-4ED1-84F3-4A6CB40C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6EE4-4ACE-43E7-9CD8-A6945DDFBD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lanamed.com/flebotromboz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332000" y="549360"/>
            <a:ext cx="64800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ФГБУ ЦНИИОИЗ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МИНЗДРАВА РФ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й научный сотрудни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ндидат медицинских наук</a:t>
            </a:r>
            <a:br>
              <a:rPr sz="2000"/>
            </a:br>
            <a:br>
              <a:rPr sz="20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ЕКРИЕРУ ЕМ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МИХАЙЛ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4868640"/>
            <a:ext cx="720072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СКВА – 20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64480" cy="55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епсис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является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сложнением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обширных гнойных процессов (одонтогенных, остеогенных, отогенных, тонзиллогенных, риногенных, генитальных, урогенных, раневых и т.д.).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едких случа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гда причину сепсиса установить не удается, он носит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птоген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 кодируется как самостоятельная нозологическая фор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  <a:ea typeface="Times New Roman"/>
              </a:rPr>
              <a:t>Необходимо обратить внимание, что в акушерско-гинекологической практике, как правило, сепсис регистрируется не как осложнение аборта, беременности, родов и послеродового периода, а как криптогенное заболевание. Это ведет к сокрытию случаев материнской смерт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ИНАМИКА ЛЕТАЛЬНОСТИ ОТ СЕПСИСА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9640" y="1989000"/>
          <a:ext cx="8147160" cy="3600720"/>
        </p:xfrm>
        <a:graphic>
          <a:graphicData uri="http://schemas.openxmlformats.org/drawingml/2006/table">
            <a:tbl>
              <a:tblPr/>
              <a:tblGrid>
                <a:gridCol w="1384560"/>
                <a:gridCol w="2117520"/>
                <a:gridCol w="2036880"/>
                <a:gridCol w="2608200"/>
              </a:tblGrid>
              <a:tr h="457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ы лечени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епсис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б-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 б-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оказатель летальности в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0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2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0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ПРОБЛЕМА КОДИРОВАНИЯ ДИАГНОЗОВ 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I20.0 – I20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7138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тенокард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амая легкая форма ишемических болезней сердца. Она заключается в том, что спазм коронарных артерий, питающих сердце, препятствует притоку крови, но, во-первых, не полностью, а во-вторых, не надолго. Обычно через 10-20 минут спазм прекращ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60093"/>
                </a:solidFill>
                <a:latin typeface="Arial"/>
              </a:rPr>
              <a:t>Среднее число койко</a:t>
            </a:r>
            <a:r>
              <a:rPr b="1" lang="en-US" sz="1600" spc="-1" strike="noStrike">
                <a:solidFill>
                  <a:srgbClr val="d60093"/>
                </a:solidFill>
                <a:latin typeface="Arial"/>
              </a:rPr>
              <a:t>/</a:t>
            </a:r>
            <a:r>
              <a:rPr b="1" lang="ru-RU" sz="1600" spc="-1" strike="noStrike">
                <a:solidFill>
                  <a:srgbClr val="d60093"/>
                </a:solidFill>
                <a:latin typeface="Arial"/>
              </a:rPr>
              <a:t>дней, проведенных в стационаре с диагнозом стенокардия -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13,8 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5083200" y="156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71640" y="2017800"/>
          <a:ext cx="6840360" cy="2851200"/>
        </p:xfrm>
        <a:graphic>
          <a:graphicData uri="http://schemas.openxmlformats.org/drawingml/2006/table">
            <a:tbl>
              <a:tblPr/>
              <a:tblGrid>
                <a:gridCol w="2279520"/>
                <a:gridCol w="2279520"/>
                <a:gridCol w="2281320"/>
              </a:tblGrid>
              <a:tr h="34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бсолютные величины летальных и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нокарди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20.0-.9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её нестабильная стенокардия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4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4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3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4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95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инамика летальности от стенокардии в стационарах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46040" y="1270080"/>
            <a:ext cx="8253360" cy="49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760" bIns="158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  <a:ea typeface="Arial"/>
              </a:rPr>
              <a:t>ПРИЧИНЫ ХРОНИЧЕСКОЙ ПОЧЕЧНОЙ НЕДОСТА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 Хронический гломерулонефрит (поражение клубочкового аппарата почек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 Вторичные поражения почек, вызванн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сахарным диабетом 1 и 2 типа;</a:t>
            </a:r>
            <a:br>
              <a:rPr sz="1800"/>
            </a:br>
            <a:r>
              <a:rPr b="0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- артериальной гипертензией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системными заболеваниями соединительной ткан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вирусным гепатитом «В» и/или «С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системными васкулитам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подагро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маляр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злокачественными новообразования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 Хронический пиелонефри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 Мочекаменная болезнь, обструкция мочевыводящих пут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 Аномалии развития мочевыделитель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. Поликистоз поче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. Действие токсических веществ и лека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ПОЧЕЧНАЯ НЕДОСТАТОЧ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332000" y="2311560"/>
          <a:ext cx="6480000" cy="3319200"/>
        </p:xfrm>
        <a:graphic>
          <a:graphicData uri="http://schemas.openxmlformats.org/drawingml/2006/table">
            <a:tbl>
              <a:tblPr/>
              <a:tblGrid>
                <a:gridCol w="1104840"/>
                <a:gridCol w="1681200"/>
                <a:gridCol w="1619280"/>
                <a:gridCol w="207468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ы лечения почечной недостаточности в стациона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ыло б-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б-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летальности 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4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ДИНАМИКА ЛЕТАЛЬНОСТИ ОТ ПОЧЕЧНОЙ НЕДОСТАТОЧНОСТИ В СТАЦИОНАРА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йская Феде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95280" y="1261440"/>
            <a:ext cx="8497800" cy="38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57480" indent="-632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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Z49 Помощь, включающая ди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632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ключены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ка и проведение диали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57480" indent="-632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сключено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стояние, связанное с почечным диализом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99.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57480" indent="-632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Z49.0 Подготовительные процедуры для проведения диали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57480" indent="-632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Z49.1 Экстракорпоральный диал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57480" indent="-632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иализ (почечный) Б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57480" indent="-632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49.2 Другой вид диали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57480" indent="-632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еритонеальный диал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57480" indent="-632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99 Зависимость от поддерживающих жизнедеятельн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ханизмов и устройств, не классифицированная в других рубри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632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99.2 Зависимость от почечного диали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57480" indent="-632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личие артериовенозного шунта для диали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57480" indent="-632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стояние почечного диали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57480" indent="-632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сключены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ка к диализу, его проведение или курс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49.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КОДИРОВАНИЕ ДИ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71640" y="1989000"/>
          <a:ext cx="7200720" cy="3676680"/>
        </p:xfrm>
        <a:graphic>
          <a:graphicData uri="http://schemas.openxmlformats.org/drawingml/2006/table">
            <a:tbl>
              <a:tblPr/>
              <a:tblGrid>
                <a:gridCol w="1206360"/>
                <a:gridCol w="1970280"/>
                <a:gridCol w="2062080"/>
                <a:gridCol w="1962000"/>
              </a:tblGrid>
              <a:tr h="514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ы лечения перитонита в стациона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ыло б-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зрослые + де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б-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зрослые + де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летальности в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8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10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8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1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8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10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8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8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6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ИНАМИКА ЛЕТАЛЬНОСТИ ОТ ПЕРИТОНИТА В СТАЦИОНАРАХ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тэла фото"/>
          <p:cNvPicPr/>
          <p:nvPr/>
        </p:nvPicPr>
        <p:blipFill>
          <a:blip r:embed="rId1"/>
          <a:stretch/>
        </p:blipFill>
        <p:spPr>
          <a:xfrm>
            <a:off x="2771640" y="2708280"/>
            <a:ext cx="3240360" cy="2881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ТЭЛА</a:t>
            </a:r>
            <a:br>
              <a:rPr sz="2400"/>
            </a:b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(тромбоэмболия легочной артерии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1268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и причин возникновения ТЭЛА следует отмети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стрый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флеботромбоз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вен нижних конечностей, осложненный тромбофлебитом (90% случае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611280" y="2238480"/>
          <a:ext cx="7561080" cy="3351240"/>
        </p:xfrm>
        <a:graphic>
          <a:graphicData uri="http://schemas.openxmlformats.org/drawingml/2006/table">
            <a:tbl>
              <a:tblPr/>
              <a:tblGrid>
                <a:gridCol w="1290600"/>
                <a:gridCol w="1962000"/>
                <a:gridCol w="1887480"/>
                <a:gridCol w="2421000"/>
              </a:tblGrid>
              <a:tr h="442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ы лечения легочной эмболии в стациона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ыло б-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зрослые + де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б-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зрослые + де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летальности в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0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5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6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30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6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8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5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5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ИНАМИКА ЛЕТАЛЬНОСТИ ОТ ЛЕГОЧНОЙ ЭМБОЛИИ В СТАЦИОНАРАХ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сийская Феде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ФЕДЕРАЛЬНОЕ СТАТИСТИЧЕСКОЕ НАБЛЮ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ЯТЕЛЬНОСТЬ СТАЦИОН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рма №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611280" y="1311120"/>
          <a:ext cx="7921440" cy="2438640"/>
        </p:xfrm>
        <a:graphic>
          <a:graphicData uri="http://schemas.openxmlformats.org/drawingml/2006/table">
            <a:tbl>
              <a:tblPr/>
              <a:tblGrid>
                <a:gridCol w="1585800"/>
                <a:gridCol w="1582920"/>
                <a:gridCol w="1584000"/>
                <a:gridCol w="1584360"/>
                <a:gridCol w="158436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6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47" descr=""/>
          <p:cNvPicPr/>
          <p:nvPr/>
        </p:nvPicPr>
        <p:blipFill>
          <a:blip r:embed="rId1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8"/>
          <p:cNvSpPr/>
          <p:nvPr/>
        </p:nvSpPr>
        <p:spPr>
          <a:xfrm>
            <a:off x="1692360" y="549360"/>
            <a:ext cx="6119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ь стационар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СИМПТОМ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6" descr=""/>
          <p:cNvPicPr/>
          <p:nvPr/>
        </p:nvPicPr>
        <p:blipFill>
          <a:blip r:embed="rId2"/>
          <a:stretch/>
        </p:blipFill>
        <p:spPr>
          <a:xfrm>
            <a:off x="7812000" y="246240"/>
            <a:ext cx="719280" cy="6616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1497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Пациенты с симптомами заболевания госпитализируются для уточнения диагноза. </a:t>
            </a:r>
            <a:br>
              <a:rPr sz="1400"/>
            </a:b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Если диагноз заболевания не уточнен эти случаи госпитализации следует рассматривать как обследование и должны регистрироваться в строке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21.0 «Факторы, влияющие на состояние здоровья и обращения в учреждения здравоохранения»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ый случай летального исхода по этому классу МКБ должен быть подтвержден письменной копией посмертного заключительного диагноза при сдаче годового отчета с указанием кода первоначальной причины смер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6" descr=""/>
          <p:cNvPicPr/>
          <p:nvPr/>
        </p:nvPicPr>
        <p:blipFill>
          <a:blip r:embed="rId3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7" descr=""/>
          <p:cNvPicPr/>
          <p:nvPr/>
        </p:nvPicPr>
        <p:blipFill>
          <a:blip r:embed="rId4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8" descr=""/>
          <p:cNvPicPr/>
          <p:nvPr/>
        </p:nvPicPr>
        <p:blipFill>
          <a:blip r:embed="rId5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9" descr=""/>
          <p:cNvPicPr/>
          <p:nvPr/>
        </p:nvPicPr>
        <p:blipFill>
          <a:blip r:embed="rId6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0" descr=""/>
          <p:cNvPicPr/>
          <p:nvPr/>
        </p:nvPicPr>
        <p:blipFill>
          <a:blip r:embed="rId7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611280" y="1268280"/>
          <a:ext cx="7921440" cy="2975040"/>
        </p:xfrm>
        <a:graphic>
          <a:graphicData uri="http://schemas.openxmlformats.org/drawingml/2006/table">
            <a:tbl>
              <a:tblPr/>
              <a:tblGrid>
                <a:gridCol w="1585800"/>
                <a:gridCol w="1582920"/>
                <a:gridCol w="1584000"/>
                <a:gridCol w="1584360"/>
                <a:gridCol w="1584360"/>
              </a:tblGrid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ациентов с синдромом Дау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Rectangle 53"/>
          <p:cNvSpPr/>
          <p:nvPr/>
        </p:nvSpPr>
        <p:spPr>
          <a:xfrm>
            <a:off x="971640" y="450864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рождённый порок сердца - главная причина смерти детей с синдромом Да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ричины смерти взрослых пациентов – чаще всего соматические болезни, а не синдром Дау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ятельность стационара РФ</a:t>
            </a:r>
            <a:br>
              <a:rPr sz="2400"/>
            </a:b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Синдром Да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УБРИКИ МКБ-10 ПРЕДНАЗНАЧЕННЫЕ ДЛЯ КОДИРОВАНИЯ ТОЛЬКО ПЕРВОНАЧАЛЬНОЙ ПРИЧИНЫ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628640"/>
          <a:ext cx="8439120" cy="4259520"/>
        </p:xfrm>
        <a:graphic>
          <a:graphicData uri="http://schemas.openxmlformats.org/drawingml/2006/table">
            <a:tbl>
              <a:tblPr/>
              <a:tblGrid>
                <a:gridCol w="7324920"/>
                <a:gridCol w="111420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Последствия инфекционных и паразитарных болезней (рубрики охватывают все инфекционные и паразитарные болезн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90-В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оследствия недостаточности питания и недостатка других питательных веще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Последствия избыточности пи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Е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Последствия воспалительных болезней центральной нервной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G</a:t>
                      </a:r>
                      <a:r>
                        <a:rPr b="1" lang="ru-RU" sz="16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оследствия цереброваскулярных болез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Смерть матери от последствий прямых акушерских прич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O</a:t>
                      </a: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66ff"/>
                          </a:solidFill>
                          <a:latin typeface="Arial"/>
                        </a:rPr>
                        <a:t>Последствия травм, отравлений и других воздействий внешних прич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90-Т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Последствия воздействия внешних причин заболеваемости и смер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Y85-Y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ДЛЯ КОДИРОВАНИЯ ЗАБОЛЕВАЕМОСТИ РУБРИКИ ПОСЛЕДСТВИЙ НЕ ИСПОЛЬЗУ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28600" y="2349000"/>
            <a:ext cx="8686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26676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предпочтительным кодом для диагноза болезни является код природы самого послед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нимальный промежуток времени для понятия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«последствие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е установ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РОКИ СРАЩЕНИЯ ПЕРЕЛОМОВ</a:t>
            </a:r>
            <a:br>
              <a:rPr sz="3200"/>
            </a:br>
            <a:r>
              <a:rPr b="1" lang="ru-RU" sz="1600" spc="-1" strike="noStrike">
                <a:solidFill>
                  <a:srgbClr val="d60093"/>
                </a:solidFill>
                <a:latin typeface="Arial"/>
              </a:rPr>
              <a:t>* Сроки сокращаются в молодом возрасте, в пожилом — увеличи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средние сроки срастания переломов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8360" y="1268280"/>
            <a:ext cx="81360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971640" y="907920"/>
          <a:ext cx="7561080" cy="5151600"/>
        </p:xfrm>
        <a:graphic>
          <a:graphicData uri="http://schemas.openxmlformats.org/drawingml/2006/table">
            <a:tbl>
              <a:tblPr/>
              <a:tblGrid>
                <a:gridCol w="756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Некоторые последствия перелом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1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еправильное срастание перел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ержка в срастании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8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срастание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8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равильное срастание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8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крестное срастание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8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жный сустав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pseudoarthrosis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синоним псевдоартроз)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8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1800">
                        <a:lnSpc>
                          <a:spcPct val="100000"/>
                        </a:lnSpc>
                        <a:tabLst>
                          <a:tab algn="l" pos="0"/>
                          <a:tab algn="l" pos="54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ру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54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септический некроз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сти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87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54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орочение кости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2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54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угоподвижность суставов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2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54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трофия Зудека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89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54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еомиелит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8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54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шемическая контрактура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става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2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54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сифицирующий миозит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6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54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еоартрит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1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54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рофия мышц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6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54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быточная костная мозоль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8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18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54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формация кости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95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2050920" y="549360"/>
            <a:ext cx="5042160" cy="1079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ДИРОВАНИЕ ОСТ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ЕРЕБРОВАСКУЛЯРНЫХ БОЛЕЗН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ИХ ПОСЛ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2230560" y="1628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1332000" y="2030400"/>
            <a:ext cx="2160360" cy="139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4572000" y="1628640"/>
            <a:ext cx="360360" cy="1440000"/>
          </a:xfrm>
          <a:prstGeom prst="downArrow">
            <a:avLst>
              <a:gd name="adj1" fmla="val 50000"/>
              <a:gd name="adj2" fmla="val 999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6732720" y="1628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7"/>
          <p:cNvSpPr/>
          <p:nvPr/>
        </p:nvSpPr>
        <p:spPr>
          <a:xfrm>
            <a:off x="6012000" y="2030400"/>
            <a:ext cx="1800000" cy="1173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332000" y="2349360"/>
            <a:ext cx="2160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АЦИЕНТЫ, НАХОДЯЩИЕСЯ ПОД НАБЛЮДЕНИЕМ И СЛУЧАИ ЛЕТАЛЬНОГО ИСХОДА В СРОКИ ДО 30 СУ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012000" y="2349360"/>
            <a:ext cx="1800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СЛУЧАИ ЛЕТАЛЬНОГО ИСХОДА В СРОКИ 30 СУТОК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БОЛЕ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1332000" y="3189240"/>
            <a:ext cx="360360" cy="477720"/>
          </a:xfrm>
          <a:prstGeom prst="downArrow">
            <a:avLst>
              <a:gd name="adj1" fmla="val 50000"/>
              <a:gd name="adj2" fmla="val 331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7451640" y="3068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611280" y="3666960"/>
            <a:ext cx="1800000" cy="12020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6732720" y="3429000"/>
            <a:ext cx="1800000" cy="1079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7093080" y="3789360"/>
            <a:ext cx="107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6732720" y="3619440"/>
            <a:ext cx="18000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6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 соответствующими четвертыми зна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611280" y="3789360"/>
            <a:ext cx="18000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ОД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60-I6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 соответствующими четвертыми зна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ilecab2"/>
          <p:cNvSpPr/>
          <p:nvPr/>
        </p:nvSpPr>
        <p:spPr>
          <a:xfrm>
            <a:off x="3492360" y="3068640"/>
            <a:ext cx="2519640" cy="1044720"/>
          </a:xfrm>
          <a:custGeom>
            <a:avLst/>
            <a:gdLst>
              <a:gd name="textAreaLeft" fmla="*/ 117000 w 2519640"/>
              <a:gd name="textAreaRight" fmla="*/ 2396520 w 2519640"/>
              <a:gd name="textAreaTop" fmla="*/ 24480 h 1044720"/>
              <a:gd name="textAreaBottom" fmla="*/ 956160 h 1044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0" y="0"/>
                </a:lnTo>
                <a:lnTo>
                  <a:pt x="0" y="10800"/>
                </a:lnTo>
                <a:lnTo>
                  <a:pt x="0" y="20367"/>
                </a:lnTo>
                <a:lnTo>
                  <a:pt x="5807" y="20367"/>
                </a:lnTo>
                <a:lnTo>
                  <a:pt x="5807" y="20637"/>
                </a:lnTo>
                <a:lnTo>
                  <a:pt x="5970" y="20818"/>
                </a:lnTo>
                <a:lnTo>
                  <a:pt x="6133" y="20968"/>
                </a:lnTo>
                <a:lnTo>
                  <a:pt x="6404" y="21239"/>
                </a:lnTo>
                <a:lnTo>
                  <a:pt x="6567" y="21419"/>
                </a:lnTo>
                <a:lnTo>
                  <a:pt x="7055" y="21510"/>
                </a:lnTo>
                <a:lnTo>
                  <a:pt x="7544" y="21600"/>
                </a:lnTo>
                <a:lnTo>
                  <a:pt x="8141" y="21600"/>
                </a:lnTo>
                <a:lnTo>
                  <a:pt x="10800" y="21600"/>
                </a:lnTo>
                <a:lnTo>
                  <a:pt x="13188" y="21600"/>
                </a:lnTo>
                <a:lnTo>
                  <a:pt x="13948" y="21600"/>
                </a:lnTo>
                <a:lnTo>
                  <a:pt x="14436" y="21510"/>
                </a:lnTo>
                <a:lnTo>
                  <a:pt x="14708" y="21419"/>
                </a:lnTo>
                <a:lnTo>
                  <a:pt x="15033" y="21239"/>
                </a:lnTo>
                <a:lnTo>
                  <a:pt x="15359" y="20968"/>
                </a:lnTo>
                <a:lnTo>
                  <a:pt x="15522" y="20818"/>
                </a:lnTo>
                <a:lnTo>
                  <a:pt x="15684" y="20637"/>
                </a:lnTo>
                <a:lnTo>
                  <a:pt x="15684" y="20367"/>
                </a:lnTo>
                <a:lnTo>
                  <a:pt x="21600" y="20367"/>
                </a:lnTo>
                <a:lnTo>
                  <a:pt x="21600" y="10800"/>
                </a:lnTo>
                <a:lnTo>
                  <a:pt x="21600" y="0"/>
                </a:lnTo>
                <a:lnTo>
                  <a:pt x="10800" y="0"/>
                </a:lnTo>
                <a:close/>
                <a:moveTo>
                  <a:pt x="7055" y="20367"/>
                </a:moveTo>
                <a:lnTo>
                  <a:pt x="7055" y="20547"/>
                </a:lnTo>
                <a:lnTo>
                  <a:pt x="7055" y="20637"/>
                </a:lnTo>
                <a:lnTo>
                  <a:pt x="7218" y="20728"/>
                </a:lnTo>
                <a:lnTo>
                  <a:pt x="7381" y="20818"/>
                </a:lnTo>
                <a:lnTo>
                  <a:pt x="7544" y="20908"/>
                </a:lnTo>
                <a:lnTo>
                  <a:pt x="7707" y="20968"/>
                </a:lnTo>
                <a:lnTo>
                  <a:pt x="7815" y="20968"/>
                </a:lnTo>
                <a:lnTo>
                  <a:pt x="8141" y="20968"/>
                </a:lnTo>
                <a:lnTo>
                  <a:pt x="13188" y="20968"/>
                </a:lnTo>
                <a:lnTo>
                  <a:pt x="13459" y="20968"/>
                </a:lnTo>
                <a:lnTo>
                  <a:pt x="13785" y="20968"/>
                </a:lnTo>
                <a:lnTo>
                  <a:pt x="13948" y="20908"/>
                </a:lnTo>
                <a:lnTo>
                  <a:pt x="14111" y="20818"/>
                </a:lnTo>
                <a:lnTo>
                  <a:pt x="14273" y="20728"/>
                </a:lnTo>
                <a:lnTo>
                  <a:pt x="14273" y="20637"/>
                </a:lnTo>
                <a:lnTo>
                  <a:pt x="14436" y="20547"/>
                </a:lnTo>
                <a:lnTo>
                  <a:pt x="14436" y="20367"/>
                </a:lnTo>
                <a:lnTo>
                  <a:pt x="7055" y="20367"/>
                </a:lnTo>
                <a:close/>
              </a:path>
              <a:path w="21600" h="21600">
                <a:moveTo>
                  <a:pt x="7055" y="20367"/>
                </a:moveTo>
                <a:lnTo>
                  <a:pt x="5807" y="20367"/>
                </a:lnTo>
                <a:lnTo>
                  <a:pt x="21600" y="20367"/>
                </a:lnTo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3492360" y="3189240"/>
            <a:ext cx="2519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У ПАЦИЕНТОВ, НАХОДЯЩИХСЯ ПОД НАБЛЮДЕНИЕМ С ПОСЛЕДСТВИЯМИ ОСТРЫХ ЦВБ В СРОКИ 30 СУТОК И БОЛЕ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4572000" y="4113360"/>
            <a:ext cx="360360" cy="395280"/>
          </a:xfrm>
          <a:prstGeom prst="downArrow">
            <a:avLst>
              <a:gd name="adj1" fmla="val 50000"/>
              <a:gd name="adj2" fmla="val 274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0"/>
          <p:cNvSpPr/>
          <p:nvPr/>
        </p:nvSpPr>
        <p:spPr>
          <a:xfrm>
            <a:off x="3132000" y="4508640"/>
            <a:ext cx="3240360" cy="180000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492360" y="4869000"/>
            <a:ext cx="2519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132000" y="4834080"/>
            <a:ext cx="3240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ДИРУЮТСЯ ОСТАТОЧНЫЕ СОМАТИЧЕСКИЕ СОСТОЯНИЯ  ОСТРЫХ ЦЕРЕБРОВАСКУЛЯРНЫХ БОЛЕЗ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Последствия инсульта</a:t>
            </a:r>
            <a:br>
              <a:rPr sz="44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(ишемического, геморрагического, неуточненного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32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7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СОСТОЯНИЯ ПОДЛЕЖАЩИЕ КОДИРОВАНИЮ ПОСЛЕ ОКОНЧАНИЯ ОСТРОГО ПЕРИОД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30 дней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1. Параличи и паре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2. Изменения тонуса мышц      паретичных конеч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3. Постинсультные трофические 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4. Нарушение чувстви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5. Центральный болевой синд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6. Речевые 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7. Нарушения высших психических фун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8. Зрительные нару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ВОЗМОЖНЫЕ ВТОРИЧНЫЕ ОСЛОЖН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85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8560" indent="-447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Контрак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8560" indent="-447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Пневмо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8560" indent="-447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Пролеж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8560" indent="-447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Деменция (слабоум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8560" indent="-447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Эпилепсия (судорог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8560" indent="-447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Нарушение функции тазовых органов (задержка или недержание мочи, кала) и др.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24000" y="1125360"/>
          <a:ext cx="8569080" cy="529452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ушение координации движений, общая слабость или даже паралич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чем двигательная активность может быть нарушена, как полностью, так и частично (в зависимости от того, какие именно отделы головного мозга были поражены вследствие кровоизлияния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ушения реч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Это также достаточно распространенная проблема, с которой сталкиваются многие люди, перенесшие геморрагический инсульт. Причем, помимо речи, у пациента могут возникать также сложности с чтением и письм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еденческие и психологические нарушени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Если человек перенес рассматриваемое заболевание, то у него могут наблюдаться неадекватные реакции на изменения условий окружающей среды. Кроме того, родственники такого больного могут столкнуться с немотивированными вспышками агрессии, излишней пугливостью, разнообразными мани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ушения глотани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Это распространенное и достаточно опасное последствие болезни, поскольку пища или напитки, потребляемые пациентом, могут попадать в его дыхательное горл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ушения восприяти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Больной, даже обладая идеальным зрением, может не понимать, что именно он видит. А также у таких пациентов нередко возникают проблемы с использованием самых обыкновенных бытовых предме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пилепсия или сильные бол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Эти последствия инфаркта мозга наблюдаются у пациентов достаточно редко, но все-таки они заслуживают внимания. Причем болевые ощущения, вызванные рассматриваемым заболеванием, как правило, невозможно ликвидировать с помощью медикаментозных средств (даже самых сильных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ушение функций мочевого пузыря и кишечника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ни могут быть самыми разнообразными, но чаще всего у больных наблюдается именно недержание мочи или ка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САМЫЕ РАСПРОСТРАНЕННЫЕ ПОСЛЕДСТВИЯ ВНУТРИМОЗГОВОГО КРОВОИЗЛИ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24000" y="836640"/>
          <a:ext cx="8496000" cy="608976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Двигательные нарушения, слабость или паралич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– это может привести к трудностям при движении, ходьбе и координации. Нарушения движения на одной стороне тела называются гемипарез или гемиплегия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Нарушение глотания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Нарушение акта глотания может привести к попаданию пищи и жидкости не в пищевод, а в дыхательное горло и легкие, становясь тем самым причиной тяжелого воспаления легких. Нарушение глотания может привести так же к запорам и обезвоживанию организма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Нарушение речи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Нарушение воспроизведения и понимания речи, в том числе трудности в чтении, письме, счете происходят в результате повреждения левого полушария головного мозга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Проблемы восприятия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При нормальном зрении человек не в состоянии понять, что он видит. Нарушения восприятия затрудняют использование человеком предметов обыденного обихода. Например, человек не может взять стакан и налить в него воду и затем выпить её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Когнитивные нарушения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Нарушается способность к умственному восприятию и переработке внешней информации. Нарушается ясное и логическое мышление, ухудшается память, утрачивается способность к обучению, принятию решений и перспективному планированию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Нарушения поведения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Может появиться агрессия, замедленная реакция, пугливость, эмоциональная нестабильность, дезорганизация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Нарушение мочеиспускания и дефекации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Трудности с кишечником или мочевым пузырем (недержание или задержка мочи, недержания кала) может быть вызвано целым рядом различных проблем после инсульта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Психологические нарушения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Резкие колебания настроения, депрессия, раздражительность, беспричинный смех или плач. Депрессия очень частая проблема у людей перенесших инсульт и часто сопровождается потерей аппетита, беспричинным смехом или плачем, бессонницей, низкой самооценкой и повышенным чувством тревоги…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Эпилепсия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развивается у 7-20 % людей, перенесших инсульт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Болевой синдром.</a:t>
                      </a:r>
                      <a:r>
                        <a:rPr b="0" lang="ru-RU" sz="1300" spc="-1" strike="noStrike">
                          <a:solidFill>
                            <a:srgbClr val="414141"/>
                          </a:solidFill>
                          <a:latin typeface="Tahoma"/>
                          <a:ea typeface="Times New Roman"/>
                        </a:rPr>
                        <a:t> После инсульта у небольшого количества людей, развиваются болевые приступы в виде горения, стреляющих, пульсирующих болей, которые не снимаются обезболивающими препаратами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ПОСЛЕДСТВИЯ ИНФАРКТА МОЗ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НЕКОТОРЫЕ УСЛОВИЯ КОНТР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ШЕМИЧЕСКИЕ БОЛЕЗНИ СЕРД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2000: СТРОКА 10.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графам 4-10, 11-17, 18-26 должна быть равна сумме строк: 10.4.1 + 10.4.2 + 10.4.3  +10.4.4 +10.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РЕБРОВАСКУЛЯРНЫЕ БОЛЕ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2000: СТРОКА 10.7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графам 4-7, 11-14, 18-23 должна быть равна сумме строк: 10.7.1 + 10.7.2 + 10.7.3 + 10.7.4 + 10.7.5 + 10.7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2000: СТРОКА 10.7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графам 8-10, 15-17, 24-27 может быть больше суммы строк: 10.7.1 + 10.7.2 + 10.7.3 + 10.7.4 + 10.7.5 + 10.7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ВМЫ И ОТ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2000: В ГРАФАХ 9, 16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25 СТРОКИ 20.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должны указываться судебно-медицинские вскры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ОМЕ ТОГ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блица 2000: контроль информации в графе 21 строки 16.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беременность в возрасте до г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2"/>
          <p:cNvSpPr/>
          <p:nvPr/>
        </p:nvSpPr>
        <p:spPr>
          <a:xfrm flipV="1">
            <a:off x="3635280" y="188640"/>
            <a:ext cx="1873440" cy="1295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564000" y="476280"/>
            <a:ext cx="20160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  <a:ea typeface="Arial"/>
              </a:rPr>
              <a:t>САХАРНЫЙ ДИАБ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  <a:ea typeface="Arial"/>
              </a:rPr>
              <a:t>Е10 – Е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059280" y="2708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987640" y="251316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132000" y="2349360"/>
            <a:ext cx="3024360" cy="244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0  С ком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1  С кетоaцидоз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2+ С поражением п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3+ С поражениями гл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4+ С неврологически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сложн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5  С нaрушениями перифериче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ровообрa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6  С другими уточнен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сложн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7  С множественными осложн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8  С неуточненными осложн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9  Без ослож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4427640" y="1484280"/>
            <a:ext cx="431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3492360" y="1779480"/>
            <a:ext cx="2519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995640" y="141300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3564000" y="1413000"/>
            <a:ext cx="21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4427640" y="1557360"/>
            <a:ext cx="81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4371840" y="1617840"/>
            <a:ext cx="1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О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492360" y="1773360"/>
            <a:ext cx="251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ЛИНИЧЕСКОЕ Т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5508720" y="836640"/>
            <a:ext cx="187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5"/>
          <p:cNvSpPr/>
          <p:nvPr/>
        </p:nvSpPr>
        <p:spPr>
          <a:xfrm>
            <a:off x="3492360" y="76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 flipH="1">
            <a:off x="1547280" y="765000"/>
            <a:ext cx="208764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00000" y="1844640"/>
            <a:ext cx="1368360" cy="4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900000" y="184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ПРОФИЛЬ ЛЕЧЕНИЯ ЭНДОКРИНОЛОГ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>
            <a:off x="464328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"/>
          <p:cNvSpPr/>
          <p:nvPr/>
        </p:nvSpPr>
        <p:spPr>
          <a:xfrm>
            <a:off x="1258920" y="24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1"/>
          <p:cNvSpPr/>
          <p:nvPr/>
        </p:nvSpPr>
        <p:spPr>
          <a:xfrm>
            <a:off x="140328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2"/>
          <p:cNvSpPr/>
          <p:nvPr/>
        </p:nvSpPr>
        <p:spPr>
          <a:xfrm>
            <a:off x="1547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3"/>
          <p:cNvSpPr/>
          <p:nvPr/>
        </p:nvSpPr>
        <p:spPr>
          <a:xfrm>
            <a:off x="6877080" y="1773360"/>
            <a:ext cx="13669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4"/>
          <p:cNvSpPr/>
          <p:nvPr/>
        </p:nvSpPr>
        <p:spPr>
          <a:xfrm>
            <a:off x="6804000" y="184464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НЕПРОФИЛЬНОЕ ЛЕЧЕН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826920" y="2637000"/>
            <a:ext cx="1368720" cy="504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6877080" y="2492280"/>
            <a:ext cx="1440000" cy="505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7"/>
          <p:cNvSpPr/>
          <p:nvPr/>
        </p:nvSpPr>
        <p:spPr>
          <a:xfrm>
            <a:off x="7596360" y="2205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27082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ВРАЧ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9"/>
          <p:cNvSpPr/>
          <p:nvPr/>
        </p:nvSpPr>
        <p:spPr>
          <a:xfrm>
            <a:off x="7020000" y="256536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ВРАЧ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>
            <a:off x="147636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>
            <a:off x="759636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324000" y="3573360"/>
            <a:ext cx="180000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3"/>
          <p:cNvSpPr/>
          <p:nvPr/>
        </p:nvSpPr>
        <p:spPr>
          <a:xfrm>
            <a:off x="395280" y="3645000"/>
            <a:ext cx="1584360" cy="276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НДОКРИНОЛ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4"/>
          <p:cNvSpPr/>
          <p:nvPr/>
        </p:nvSpPr>
        <p:spPr>
          <a:xfrm>
            <a:off x="6659640" y="3284640"/>
            <a:ext cx="2233440" cy="136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5"/>
          <p:cNvSpPr/>
          <p:nvPr/>
        </p:nvSpPr>
        <p:spPr>
          <a:xfrm>
            <a:off x="6659640" y="3284640"/>
            <a:ext cx="21603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ЕРАПЕВ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ХИРУР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ФТАЛЬМОЛ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НЕВРОЛ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ТОПЕ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НЕФРОЛОГ и д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6"/>
          <p:cNvSpPr/>
          <p:nvPr/>
        </p:nvSpPr>
        <p:spPr>
          <a:xfrm>
            <a:off x="2195640" y="371628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7"/>
          <p:cNvSpPr/>
          <p:nvPr/>
        </p:nvSpPr>
        <p:spPr>
          <a:xfrm>
            <a:off x="6156360" y="3860640"/>
            <a:ext cx="431640" cy="289080"/>
          </a:xfrm>
          <a:prstGeom prst="leftArrow">
            <a:avLst>
              <a:gd name="adj1" fmla="val 50000"/>
              <a:gd name="adj2" fmla="val 3732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8"/>
          <p:cNvSpPr/>
          <p:nvPr/>
        </p:nvSpPr>
        <p:spPr>
          <a:xfrm>
            <a:off x="1835280" y="5157720"/>
            <a:ext cx="640872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9"/>
          <p:cNvSpPr/>
          <p:nvPr/>
        </p:nvSpPr>
        <p:spPr>
          <a:xfrm>
            <a:off x="2124000" y="5300640"/>
            <a:ext cx="58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ХЕМА ВОЗМОЖНОГО МАРШРУТА БОЛЬНОГО С САХАРНЫМ ДИАБЕ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08"/>
          <p:cNvPicPr/>
          <p:nvPr/>
        </p:nvPicPr>
        <p:blipFill>
          <a:blip r:embed="rId1"/>
          <a:stretch/>
        </p:blipFill>
        <p:spPr>
          <a:xfrm>
            <a:off x="1692360" y="189000"/>
            <a:ext cx="5759280" cy="5930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208"/>
          <p:cNvPicPr/>
          <p:nvPr/>
        </p:nvPicPr>
        <p:blipFill>
          <a:blip r:embed="rId2"/>
          <a:stretch/>
        </p:blipFill>
        <p:spPr>
          <a:xfrm>
            <a:off x="1692360" y="189000"/>
            <a:ext cx="5759280" cy="59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684360" y="1268280"/>
          <a:ext cx="7775280" cy="4145040"/>
        </p:xfrm>
        <a:graphic>
          <a:graphicData uri="http://schemas.openxmlformats.org/drawingml/2006/table">
            <a:tbl>
              <a:tblPr/>
              <a:tblGrid>
                <a:gridCol w="777528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76400" indent="-1076400"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25.2 Перенесенный в прошлом инфаркт миокар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76400" indent="-1076400"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злеченный инфаркт миокар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76400" indent="-1076400"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несенный в прошлом инфаркт миокарда, диагностированный с помощью ЭКГ или другого специального исследования при отсутствии в настоящее время симптом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76400" indent="-1076400"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25.8 Другие формы хронической ишемической болезни серд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76400" indent="-1076400"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юбое состояние, указанное в рубриках I21-I22 и I24.-, обозначенное как хроническое или установленной продолжительностью более 4 нед (более 28 дней) от нач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76400" indent="-1076400"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стинфарктный кардиосклер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ПРОБЛЕМЫ КОДИРОВАНИЯ ХРОНИЧЕСКИХ ФОРМ ИШЕМИЧЕСКОЙ БОЛЕЗНИ СЕР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95280" y="530064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рубрика </a:t>
            </a: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I25.2</a:t>
            </a:r>
            <a:r>
              <a:rPr b="0" lang="ru-RU" sz="1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(перенесенный в прошлом инфаркт миокарда)</a:t>
            </a: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не ассоциируется с постинфарктным кардиосклероз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согласно правилам МКБ не может использоваться для кодирования первоначальной причины смерти и быть причиной длительного пребывания пациента в стациона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1" descr=""/>
          <p:cNvPicPr/>
          <p:nvPr/>
        </p:nvPicPr>
        <p:blipFill>
          <a:blip r:embed="rId1"/>
          <a:stretch/>
        </p:blipFill>
        <p:spPr>
          <a:xfrm>
            <a:off x="358920" y="189000"/>
            <a:ext cx="720720" cy="6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755640" y="1628640"/>
          <a:ext cx="7561440" cy="3961080"/>
        </p:xfrm>
        <a:graphic>
          <a:graphicData uri="http://schemas.openxmlformats.org/drawingml/2006/table">
            <a:tbl>
              <a:tblPr/>
              <a:tblGrid>
                <a:gridCol w="7561440"/>
              </a:tblGrid>
              <a:tr h="396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2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ВЕГЕТАТИВНО-СОСУДИСТАЯ ДИСТОНИ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реч. dys-+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os напряжение; син.: вегетативная дисфункция, вегетативно-сосудистая дисфункция) — </a:t>
                      </a:r>
                      <a:r>
                        <a:rPr b="1" i="1" lang="ru-RU" sz="20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  <a:ea typeface="Times New Roman"/>
                        </a:rPr>
                        <a:t>условный термин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объединяющий разнообразные по происхождению и проявлениям нарушения вегетативных функций организма, обусловленные расстройством их регуля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гетативно-сосудистая дистония </a:t>
                      </a:r>
                      <a:r>
                        <a:rPr b="1" i="1" lang="ru-RU" sz="20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ea typeface="Times New Roman"/>
                        </a:rPr>
                        <a:t>всегда вторична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о отношению к какому-либо основному заболеванию или патологическому состоянию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. П. Жмурк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ЛАЯ МЕДИЦИНСКАЯ ЭНЦИКЛОПЕДИЯ, ТОМ 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вный редактор академик АМН СССР В. И. ПОКРОВСКИ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СКВА ИЗДАТЕЛЬСТВО «СОВЕТСКАЯ ЭНЦИКЛОПЕДИЯ» 19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ЕГЕТАТИВНО-СОСУДИСТАЯ ДИСТОНИЯ ЯВЛЯЕТСЯ СИМПТОМОКОМПЛЕКСОМ КАКОГО-ЛИБО ОСНОВ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5640" y="5950080"/>
            <a:ext cx="756144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00000"/>
                </a:solidFill>
                <a:latin typeface="Arial"/>
              </a:rPr>
              <a:t>Если диагноз болезни не распознан этот симптомокомплекс следует отнести к болезням вегетативной нервной системы и кодировать подрубрикой </a:t>
            </a:r>
            <a:r>
              <a:rPr b="1" lang="en-US" sz="1000" spc="-1" strike="noStrike">
                <a:solidFill>
                  <a:srgbClr val="800000"/>
                </a:solidFill>
                <a:latin typeface="Arial"/>
              </a:rPr>
              <a:t>G90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3" descr=""/>
          <p:cNvPicPr/>
          <p:nvPr/>
        </p:nvPicPr>
        <p:blipFill>
          <a:blip r:embed="rId1"/>
          <a:stretch/>
        </p:blipFill>
        <p:spPr>
          <a:xfrm>
            <a:off x="358920" y="189000"/>
            <a:ext cx="720720" cy="662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"/>
          <p:cNvPicPr/>
          <p:nvPr/>
        </p:nvPicPr>
        <p:blipFill>
          <a:blip r:embed="rId2"/>
          <a:stretch/>
        </p:blipFill>
        <p:spPr>
          <a:xfrm>
            <a:off x="7966080" y="189000"/>
            <a:ext cx="720720" cy="662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" descr=""/>
          <p:cNvPicPr/>
          <p:nvPr/>
        </p:nvPicPr>
        <p:blipFill>
          <a:blip r:embed="rId3"/>
          <a:stretch/>
        </p:blipFill>
        <p:spPr>
          <a:xfrm>
            <a:off x="358920" y="189000"/>
            <a:ext cx="720720" cy="6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0000"/>
                </a:solidFill>
                <a:uFillTx/>
                <a:latin typeface="Arial"/>
              </a:rPr>
              <a:t>КОДИРОВАНИЕ ТРАВ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РАВМЫ РАЗНОГО ТИПА И РАЗНЫХ ЛОКАЛИЗАЦИЙ – КОДИРУЮТСЯ САМОСТОЯТЕЛЬНО КАЖДАЯ ТРАВ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ТРАВМЫ ОДНОГО ТИПА И РАЗНЫХ ЛОКАЛИЗАЦИЙ – КОДИРУЮТСЯ САМОСТОЯТЕЛЬНО КАЖДАЯ ТРАВ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наличии множественных травм, для кодирования используют одну из рубрик, предусмотренных для множественных трав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Обычно четырехзначная рубрика с четвертым знаком .7 в рубриках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00-S99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– для травм одного типа, поразивших одну и ту же часть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бычно четырехзначная подрубрика с четвертым знаком .7 в последней рубрике каждого блока, т.е.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09, S19, S29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и т.д. – для травм различных типов, поразивших одну и ту же часть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Рубрики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00-T05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– для травм одного типа, поразивших различные части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611280" y="3309480"/>
            <a:ext cx="79214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■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J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09 Грипп, вызванный идентифицированным вирусом        птичьего гри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ипп, вызванный вирусами гриппа, которыми обычно инфицируются только птицы и, реже, другие живот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ОВАЯ РУБРИКА В КЛАССЕ БОЛЕЗНЕЙ ОРГАНОВ ДЫХ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611280" y="1268280"/>
            <a:ext cx="792144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ВАЯ КЛАСС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K35   Острый аппендиц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K35.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трый аппендицит с генерализованным перитони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ключен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ппендицит (острый) с генерализованны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иффузным) перитонитом вследствие разрыва ил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о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K35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трый аппендицит с локализованным перитони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ключен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трый аппендицит (с или без прободения ил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разрыва) с перитонито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изова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рый аппендицит с перитонеальным абсцесс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K35.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ругие и неуточненные формы острого аппендици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ключен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трый аппендицит без упоминания 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изованном или генерализованном перитон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ТРЫЙ АППЕНДИЦ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250920" y="1289160"/>
            <a:ext cx="864216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ВАЯ КЛАСС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■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К64  Геморрой и перианальный венозный тромбо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ключено: осложняющий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еторождение и послеродовой период (O87.2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еременность (O22.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64.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моррой первой степ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еморрой ранг/стади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еморрой (кровоточащий) без выпадения за пределы анального кана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64.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еморрой второй степ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еморрой ранг/стади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еморрой (кровоточащий) выпадающий при напряжении, но вправляющийся самостоятель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64.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еморрой третьей степ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еморрой ранг/стади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еморрой (кровоточащий) выпадающий при напряжении и требующий ручного вправления назад внутрь анального кана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64.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еморрой четвертой степ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еморрой ранг/стади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V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еморрой (кровоточащий) с выпавшей тканью, который не может быть вправлен вручну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64.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статочные геморроидальные кожные мет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жные метки анальные или прямой киш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64.5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ерианальный венозный тромбо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ианальная гемато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64.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ругой уточненный геморр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64.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еморрой неуточн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еморрой (кровоточащий)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Д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8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ез упоминания степен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ЕМОРР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1311120" y="1630440"/>
          <a:ext cx="6309000" cy="403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1120" y="1630440"/>
                    <a:ext cx="6309000" cy="40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08240" y="274320"/>
            <a:ext cx="65037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Пересмотры МК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042560" y="4005000"/>
            <a:ext cx="71866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Голубые холмы"/>
          <p:cNvPicPr/>
          <p:nvPr/>
        </p:nvPicPr>
        <p:blipFill>
          <a:blip r:embed="rId1"/>
          <a:stretch/>
        </p:blipFill>
        <p:spPr>
          <a:xfrm>
            <a:off x="1692360" y="907920"/>
            <a:ext cx="5833800" cy="2694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611280" y="4005360"/>
            <a:ext cx="143964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11280" y="1628640"/>
          <a:ext cx="7921440" cy="3600720"/>
        </p:xfrm>
        <a:graphic>
          <a:graphicData uri="http://schemas.openxmlformats.org/drawingml/2006/table">
            <a:tbl>
              <a:tblPr/>
              <a:tblGrid>
                <a:gridCol w="3959280"/>
                <a:gridCol w="699840"/>
                <a:gridCol w="804960"/>
                <a:gridCol w="484200"/>
                <a:gridCol w="484200"/>
                <a:gridCol w="407880"/>
                <a:gridCol w="1081080"/>
              </a:tblGrid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ит хронический и неуточненный, эмфизе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0-J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ая хроническая обструктивная легочная болез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оэктатическая болез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66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НЕКОТОРЫЕ УСЛОВИЯ КОНТРОЛЯ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(продолжение)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(Таблица 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67"/>
          <p:cNvSpPr/>
          <p:nvPr/>
        </p:nvSpPr>
        <p:spPr>
          <a:xfrm>
            <a:off x="371520" y="5514120"/>
            <a:ext cx="84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Эти диагнозы не могут быть причиной болезни детей в возрасте до 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50920" y="145044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2000 А, Б,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.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ледует чит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место P00-P04 -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P00-P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2000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ледует чит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кст: вместо из гр. 23 умерло в возрасте до 1 года -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из гр. 24 умерло в возрасте до 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400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ется направленных материалов на морфологическое исследование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о числу напр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420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казывается направленных материалов на морфологическое исследование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о числу напр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ЯСНЕНИЯ К ФОРМЕ №14 Ф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11280" y="1268280"/>
          <a:ext cx="7921440" cy="4321440"/>
        </p:xfrm>
        <a:graphic>
          <a:graphicData uri="http://schemas.openxmlformats.org/drawingml/2006/table">
            <a:tbl>
              <a:tblPr/>
              <a:tblGrid>
                <a:gridCol w="3600360"/>
                <a:gridCol w="720720"/>
                <a:gridCol w="3600360"/>
              </a:tblGrid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пера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Следует читать ст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в таблице 4000 и 4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сарево сечение в сроке 28 недель беременности и бол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сарево сечение в сроке </a:t>
                      </a: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2 недель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еременности и бол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сарево сечение в сроке менее 28 недель беремен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сарево сечение в сроке менее </a:t>
                      </a: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2 недель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еремен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ирпация  и надвлагалищная ампутация матки в сроке 28 недель беременности и более, в родах и после р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ирпация  и надвлагалищная ампутация матки в сроке </a:t>
                      </a: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2 недель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еременности и более, в родах и после р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0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ирпация  и надвлагалищная ампутация матки при прерывании беременности в сроке менее 28 недель беременности или после преры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ирпация  и надвлагалищная ампутация матки при прерывании беременности в сроке менее </a:t>
                      </a: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2 недель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еременности или после преры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ЯСНЕНИЯ К ФОРМЕ №14 Ф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57200" y="1628640"/>
          <a:ext cx="8075520" cy="4005360"/>
        </p:xfrm>
        <a:graphic>
          <a:graphicData uri="http://schemas.openxmlformats.org/drawingml/2006/table">
            <a:tbl>
              <a:tblPr/>
              <a:tblGrid>
                <a:gridCol w="5681520"/>
                <a:gridCol w="800280"/>
                <a:gridCol w="512640"/>
                <a:gridCol w="1081080"/>
              </a:tblGrid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у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органе зрения (из стр. 4.0 табл. 4000): микрохирургические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813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нструктивные на переднем отделе  глаза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813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нструктивные на заднем отделе гл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7400" indent="-54144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a50021"/>
                          </a:solidFill>
                          <a:uFillTx/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по поводу отслойки сетч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813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использованием лазерной аппара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хе ( стр.5.1) - слухоулучшающ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желудке по поводу язвенной болезни (стр.9.1) - органосохраняющ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ЯСНЕНИЯ К ФОРМЕ №14 ФСН</a:t>
            </a:r>
            <a:br>
              <a:rPr sz="24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Таблица 4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11280" y="1268280"/>
          <a:ext cx="7921440" cy="4000680"/>
        </p:xfrm>
        <a:graphic>
          <a:graphicData uri="http://schemas.openxmlformats.org/drawingml/2006/table">
            <a:tbl>
              <a:tblPr/>
              <a:tblGrid>
                <a:gridCol w="3240000"/>
                <a:gridCol w="669960"/>
                <a:gridCol w="3290760"/>
                <a:gridCol w="7207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перации на сердце </a:t>
                      </a: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(ф. №1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операции на сердце (ОБРАЗЕЦ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открытом серд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из них: на открытом серд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7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 искусственны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ообраще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из них: с искусственны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кровообраще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7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я врожденных пороков серд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коррекция врожденных пороков серд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я приобретенных поражений клапанов серд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коррекция приобретенных поражений клапанов серд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нарушениях ритма –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ри нарушениях ритма –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имплан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стимуля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из них: имплан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кардиостимуля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7.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я тахиаритм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коррекция тахиаритм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7.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343160" indent="-134316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катетерных абл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343160" indent="-134316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из них: катетерных абл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7.4.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54"/>
          <p:cNvSpPr/>
          <p:nvPr/>
        </p:nvSpPr>
        <p:spPr>
          <a:xfrm>
            <a:off x="1224000" y="5328720"/>
            <a:ext cx="69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cc"/>
                </a:solidFill>
                <a:latin typeface="Arial"/>
                <a:ea typeface="Times New Roman"/>
              </a:rPr>
              <a:t>Таблица 4000: сумма строки 7 в графах 3-28 будет состоять из суммы строк 7.2 + 7.3 + 7.4 + 7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  <a:ea typeface="Times New Roman"/>
              </a:rPr>
              <a:t>Таблица 4001: сумма строки 7 в графах 3-8 будет состоять из суммы строк 7.2 + 7.3 + 7.4 + 7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РАЗЕЦ ПРАВИЛЬНОГО ФОРМИРОВАНИЯ ЧИСЛА ОПЕРАЦИЙ НА СЕРДЦЕ В ТАБЛИЦАХ 4000 и 4001 ФСН ПО Ф.№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СЛОЖНЕНИЯ, КОТОРЫЕ НЕ МОГУТ БЫТЬ ПЕРВОНАЧАЛЬНОЙ ПРИЧИНОЙ ЛЕТАЛЬНОГО ИСХОДА В СТАЦИОНАРЕ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ЕПС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ТЕНОКАРДИЯ НА ФОНЕ ХРОНИЧЕСКОЙ ФОРМЫ ИШЕМИЧЕСКОЙ БОЛЕЗНИ СЕР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ЭМБОЛИЯ ЛЕГОЧНОЙ АР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cc00cc"/>
                </a:solidFill>
                <a:latin typeface="Arial"/>
              </a:rPr>
              <a:t>ПЕРИТО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ОЧЕЧНАЯ НЕДОСТАТО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57200" y="525384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Каждый случай летального исхода при этих осложнениях должен быть подтвержден письменной копией посмертного заключительного диагноза при сдаче годового отчета с указанием кода МКБ о первоначальной причине смер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18:03:02Z</dcterms:created>
  <dc:creator>ВАЛЯ</dc:creator>
  <dc:description/>
  <dc:language>en-US</dc:language>
  <cp:lastModifiedBy>МИАЦ</cp:lastModifiedBy>
  <dcterms:modified xsi:type="dcterms:W3CDTF">2014-12-02T12:31:48Z</dcterms:modified>
  <cp:revision>43</cp:revision>
  <dc:subject/>
  <dc:title>Слайд 1</dc:title>
</cp:coreProperties>
</file>