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15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Img"/>
          </p:nvPr>
        </p:nvSpPr>
        <p:spPr>
          <a:xfrm>
            <a:off x="904680" y="739440"/>
            <a:ext cx="49338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4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ftr" idx="16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 type="sldNum" idx="17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289CD59-3DB2-4E95-B989-D52F14111B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75D7786-BE7C-4AB5-B64E-4AA52E8733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6E29-842C-4D47-A7EE-F8EA93165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6949-EBBF-4CAC-B4E6-E756357FAD3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6A0E1B-5020-401C-910D-73ACEA5EB7D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B3E149-43E3-4C53-A495-440A951EB9E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986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AD8427-D35F-45E4-AC8C-73084527C6D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CFD88C-F4C6-43FA-9083-8FEEFEDDCEB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69600C-5DB9-4657-A774-4D42F108919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14492C-384A-48A0-86A6-83E0673100B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5D8D3F-0B35-4793-98A3-09A3C86366C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338402-9FDA-4158-B858-46CC3FD873D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74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6250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98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0474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6250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B82DD3-23ED-4A14-9730-E96C4AD36C3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6DD7B0-7491-4627-B78D-E21B48D24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5094-B7A8-48B9-87A6-DB28A4EF612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55437-783F-4F3A-8F06-CED599743F7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FFFA74-1F00-4699-9C05-A2E25378132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F7A38-B8A2-4C2D-8CE5-E4BCFCD01BC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14B02-F058-48AB-8DC9-34EA19875B0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986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72A5C1-ABBC-4CD8-9D4F-B3441E76AC8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714BEE-17CE-4234-A705-F39CF81A761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F2E81D-B320-41D2-A3A4-81A237DA3A6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822232-A25E-4F57-BC9B-BA31B9B7582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F0A95-FB49-47C7-9158-861FA5F017F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C686D3-5097-4CE9-99BE-86CC2420C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74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250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8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474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250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F58A-1C6B-43A1-AD69-E62ED6D7DAF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0474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6250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98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0474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6250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BDE042-81D6-4E21-8BF1-E545820E0F1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6176F-1690-4B82-88D0-0C8EDA2D6BF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7AEF8-A4BF-4427-95F7-0ACE79A2BC3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1153F-A1C2-4149-84E5-50710B63342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197A9-51E2-401F-9A11-D8D2C0A616E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FE64E-2BD9-4788-B775-CDC5C2BFAA4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986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8475F-4473-4CA7-BA5E-58AD784DC78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DE2FE-7B2D-4FFB-9B32-31A131B9F54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9B9C8-7942-4121-86C1-019F126CBB8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7C717-2F6E-4464-9A76-5A42B8EAC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8B3-FB05-44F7-8955-F767D558594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E80C8-985A-4E0E-8A39-BB42555FDE8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04B68-9DE5-401C-BA37-C0445CF3A31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0474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6250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8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0474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6250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E13A2-2002-43C7-977F-55A3D416B94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D3BA28-02BC-4872-B9C5-65D21FE1EE6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71BE33-0DC2-4C33-9447-10F8DCC651A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558AD4-ECFE-48F7-938E-4D423E75F63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04E4BB-DE3D-49EB-8618-51F0C737642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9EC111-27CB-4FC0-B42D-E38A2D957BD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986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B79026-8CC4-4919-8B95-EC29A85678E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39FE84-8DD7-4C9E-923D-28C4618844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4EE-C45F-4B0C-91F8-059AD87ABAC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103187-9485-4A7A-B5DE-B1DAFD8DFA9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67BC80-7066-40CF-95A1-4F15953149E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B88E11-2C4C-4AF5-AB3F-9F37B87E10E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7878CB-358D-4A5D-9F9C-4A614A90A23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0474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6250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98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0474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6250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E0A979-449F-4AF4-8655-0CF9078D4FB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9D63E-3011-46D5-AE04-6CE34034A3F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CB5A38-6296-435F-93F9-AF8F52D8A45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6ACBED-DC54-4CBF-ACDD-D0D1819AFB1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E585CC-A21D-4AA6-BED8-728A30B7629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D1C6E0-27A3-4F4D-9E8C-83A193BDEE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CCA-9ADC-4C45-844D-CCED383C975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986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46444-5BDD-4B31-8253-B9CE0031264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D9EC0-84A5-4DEC-9CC8-D743811DB53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53D19-BD6D-4783-B202-722D8CC31FA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DF850C-7FE2-4FD0-87E9-F1BB3042D7C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91BF2-919D-4130-83BE-A2FF631CC73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9A0796-90A0-40E0-AF58-D07B81B32B9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0474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6250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98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0474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6250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57FC2-E992-4104-832D-4149FAE423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A8D-5C91-4352-A8BC-E37CC45428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576-CF77-4401-9CD4-4A4150EABA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986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6C4-2252-49AE-95EB-7C9E8C61B4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8C0-53DD-40FA-A940-568DE27691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5592-6CA3-4B0E-B423-79B1C4BE9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737-117A-4CD4-B673-BCBB8BE0DD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21C-F987-4C10-AAE1-BA6B7805B9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1D8-E490-4464-BE92-94846FA837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057-8CD3-42D8-B4A0-FCA1C82745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4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250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8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474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250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6533-B3B8-48AC-80A8-D2653757B3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44D17-36AD-4854-B501-A7E5093D9A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BB47F-281B-4608-9ABF-A9CEDE6462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FEB87-CED3-4327-AFB5-3FB34A8415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5A84E-5F6E-4E23-AD2A-4F3241B0A6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7BAAB-A1C6-485B-9F93-ABA421582C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D4E28-FDA0-4223-B7A6-A38823FA7B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986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38D0C-B4FE-4D8F-8F9F-2428F03B8F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BA0CE-2AAF-4914-856A-264261341E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B9939-8255-4523-9F2E-C17654CBDE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04829-B746-49F0-ADA0-2FFCA96C31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A0634-4232-41CE-882E-18F30DD731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E4496-26EF-448E-AA77-F9D08C5F68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474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250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98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474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250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5AE66-0827-4DE9-BF7B-002F3EBDF1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11C76-E129-4794-B1CB-F26D2869B4A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8FC20-93A6-4EA7-BEAA-38CF61F31B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BFF9B-250C-4C40-BF52-63E893176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5F36-9B31-4692-AD0F-1EEF44C4F4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98D37-4A8B-4FCF-BA3C-A474C9776D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7C652-BCD1-4F73-B2FF-F9E0CB6DA3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986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04F42-A9E5-4444-8703-B9E2CDBBFD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36769-CB00-4355-A9B6-5CDF11C6CC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CA902-4EA7-4745-AFFE-EA502091F3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F791A-A0EC-486A-9529-3403D037578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F07F0-E2C7-4268-8CB6-92BFDAAEF2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85136-30A1-4CC4-A92D-82E24985A2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474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250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98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0474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6250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74C0E-6E92-43B4-9226-D5A06BEE087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0FD4-4330-46FB-91A7-EB848DD03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0DF6-570C-4A4C-BD41-1A71F9271F5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631F-7B16-4CA6-A882-9A283129E58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C54D-E518-4AD6-873D-D2F67604A41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3582-68C0-4DD4-A61B-5AA6E3380DC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3935-1450-45DE-9633-27AF36A612F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986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1502-5B19-490C-8857-DD556EE7FFB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6105-6E92-4A5C-81C6-ADDAB5E91EE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DF1E-486D-4438-B703-1212BA2D9D0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3CBE-C9C0-4D54-ABA1-26E3CB9BD1B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F69A-E9A8-497F-9667-328F92A4776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6FE5-4663-409C-9D30-47DA96F43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986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370F-E5DE-4FC2-B03E-2740B62F900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0474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6250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98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0474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6250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5B4F-2DC2-486D-9EEA-6CB91188BB2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FCDFB2-28FC-4EB7-84B7-557390C0488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2A44CA-5E52-4733-8D84-3A3B5CBAFC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5F92C0-5EE2-4AD5-9B96-74806658561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99985C-9899-4AE1-ACB2-43EA847D327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58BB93-10DB-42E6-B8DE-FF7143E6CA7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986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774B4D-1648-4C5E-B77A-A7126BFBF12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FD1B38-6B0D-4F71-87D7-C17480FA906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9611D1-6D72-46C3-9089-DCBC4CBB1D3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9F7FC2-FA80-40D4-91B1-0359FBE20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B447-94F9-493A-A7FE-362F9C2DBEE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F0A9F3-71A8-460D-8DAB-3A59AF25F58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BA5C58-DA9B-4D67-B3E0-3B15D9FE0CA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0474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6250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8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0474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6250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F098D6-5C1D-498C-A801-D46ABA8B88A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0D945-4A3C-4CD2-9CE3-8A012BA3D37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FCD64-C52F-4DC9-A776-95EF1A59E51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8F9B2-C0C4-4500-925D-ED51EE337F5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63437-DA5D-489F-8B7C-2F9C5831C03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DD78B-0C98-4998-B406-1C50173AFDA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986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A0A5F-60E6-4AFB-891E-3D421019C36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535CD-07A5-4AE6-9D2D-DBE4B3C22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3918-D64D-4788-B1B4-38A91481B48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BCA12-3D3F-4819-8E21-8F88E3D4731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666FE-C845-41E7-85F7-CB873EC3B21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BDF75F-2F95-4ADA-ACA2-1A07C695F7B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D1165-8356-49EC-B8E8-C179A723AB7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474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6250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98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0474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6250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E5D77-94C8-428C-95EB-93E0EAF51EB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F3A28-DCB9-4380-8B68-27FE81D2C67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0B3E-38B6-4168-A161-4F4B11AA4B2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85123-2FC3-4210-9E5C-BE0F262EE1A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DF9AF-068A-43FC-AB31-88B1A389AB8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78B19-BCB0-4375-A1BF-308128E6B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24E8-54B3-4F77-9F94-BEA81679154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986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B81B8-29DF-41EE-9C7A-8AB9513C472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F517D-01CA-4638-9925-AEAB2A1E37C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A3C75-C4F1-4703-8424-82EBEEE816F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B4AF9-E0F0-4D48-A181-CC27526C4FA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9800" y="4144680"/>
            <a:ext cx="7623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E9909-0F56-4D47-A0D7-61F975DF6C7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76160" y="151092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980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376160" y="4144680"/>
            <a:ext cx="37198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884DA-9304-4D83-BDDC-0B12A705C0B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474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625000" y="151092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98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0474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625000" y="4144680"/>
            <a:ext cx="2454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B0703-6503-4078-A01D-DAA800933B7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8C4F97-4363-40A7-AFA4-06AE7CAB6FC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2C7EC5-AC62-4CF6-8673-3507D41F0CE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6C0671-01AA-4E1E-BBE5-4AE866A26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040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BAD8-C5B1-47B2-A028-BAD0562571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4" descr=""/>
          <p:cNvPicPr/>
          <p:nvPr/>
        </p:nvPicPr>
        <p:blipFill>
          <a:blip r:embed="rId3"/>
          <a:stretch/>
        </p:blipFill>
        <p:spPr>
          <a:xfrm>
            <a:off x="8169120" y="52560"/>
            <a:ext cx="876600" cy="8175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11"/>
          </p:nvPr>
        </p:nvSpPr>
        <p:spPr>
          <a:xfrm>
            <a:off x="5040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714C-A6BF-4570-BE44-F392B39E01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Рисунок 4" descr=""/>
          <p:cNvPicPr/>
          <p:nvPr/>
        </p:nvPicPr>
        <p:blipFill>
          <a:blip r:embed="rId3"/>
          <a:stretch/>
        </p:blipFill>
        <p:spPr>
          <a:xfrm>
            <a:off x="8169120" y="52560"/>
            <a:ext cx="876600" cy="81756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12"/>
          </p:nvPr>
        </p:nvSpPr>
        <p:spPr>
          <a:xfrm>
            <a:off x="5040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AA12-1E7C-4F44-A366-1FECAE92125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Рисунок 4" descr=""/>
          <p:cNvPicPr/>
          <p:nvPr/>
        </p:nvPicPr>
        <p:blipFill>
          <a:blip r:embed="rId3"/>
          <a:stretch/>
        </p:blipFill>
        <p:spPr>
          <a:xfrm>
            <a:off x="8169120" y="52560"/>
            <a:ext cx="876600" cy="81756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13"/>
          </p:nvPr>
        </p:nvSpPr>
        <p:spPr>
          <a:xfrm>
            <a:off x="5040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860B-2E9C-4DAA-9B03-534650F476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Рисунок 4" descr=""/>
          <p:cNvPicPr/>
          <p:nvPr/>
        </p:nvPicPr>
        <p:blipFill>
          <a:blip r:embed="rId3"/>
          <a:stretch/>
        </p:blipFill>
        <p:spPr>
          <a:xfrm>
            <a:off x="8169120" y="52560"/>
            <a:ext cx="876600" cy="8175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14"/>
          </p:nvPr>
        </p:nvSpPr>
        <p:spPr>
          <a:xfrm>
            <a:off x="5040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FD72-76A8-495A-BA2E-532C141D90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88920" y="6469200"/>
            <a:ext cx="8997840" cy="360360"/>
          </a:xfrm>
          <a:prstGeom prst="rect">
            <a:avLst/>
          </a:prstGeom>
          <a:gradFill rotWithShape="0">
            <a:gsLst>
              <a:gs pos="0">
                <a:srgbClr val="009bd2"/>
              </a:gs>
              <a:gs pos="100000">
                <a:srgbClr val="ccecff"/>
              </a:gs>
            </a:gsLst>
            <a:lin ang="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626160"/>
            <a:ext cx="289584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37800" y="661356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E1B0-8E9C-4BE2-9D84-375B3D4D87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4" descr=""/>
          <p:cNvPicPr/>
          <p:nvPr/>
        </p:nvPicPr>
        <p:blipFill>
          <a:blip r:embed="rId3"/>
          <a:stretch/>
        </p:blipFill>
        <p:spPr>
          <a:xfrm>
            <a:off x="8169120" y="52560"/>
            <a:ext cx="876600" cy="817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4"/>
          </p:nvPr>
        </p:nvSpPr>
        <p:spPr>
          <a:xfrm>
            <a:off x="5040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0A65-DCB4-4E6D-B49D-1D1CAC0B57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4" descr=""/>
          <p:cNvPicPr/>
          <p:nvPr/>
        </p:nvPicPr>
        <p:blipFill>
          <a:blip r:embed="rId3"/>
          <a:stretch/>
        </p:blipFill>
        <p:spPr>
          <a:xfrm>
            <a:off x="8169120" y="52560"/>
            <a:ext cx="876600" cy="8175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5"/>
          </p:nvPr>
        </p:nvSpPr>
        <p:spPr>
          <a:xfrm>
            <a:off x="5040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6F97-5B09-40B3-AF00-7521F93759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4" descr=""/>
          <p:cNvPicPr/>
          <p:nvPr/>
        </p:nvPicPr>
        <p:blipFill>
          <a:blip r:embed="rId3"/>
          <a:stretch/>
        </p:blipFill>
        <p:spPr>
          <a:xfrm>
            <a:off x="8169120" y="52560"/>
            <a:ext cx="876600" cy="8175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6"/>
          </p:nvPr>
        </p:nvSpPr>
        <p:spPr>
          <a:xfrm>
            <a:off x="5040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2B2F-8BB2-44C0-96EB-A1AB8FFF696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4" descr=""/>
          <p:cNvPicPr/>
          <p:nvPr/>
        </p:nvPicPr>
        <p:blipFill>
          <a:blip r:embed="rId3"/>
          <a:stretch/>
        </p:blipFill>
        <p:spPr>
          <a:xfrm>
            <a:off x="8169120" y="52560"/>
            <a:ext cx="876600" cy="817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7"/>
          </p:nvPr>
        </p:nvSpPr>
        <p:spPr>
          <a:xfrm>
            <a:off x="5040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9B8A-8502-4E1A-BCB1-4CFB1B5169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4" descr=""/>
          <p:cNvPicPr/>
          <p:nvPr/>
        </p:nvPicPr>
        <p:blipFill>
          <a:blip r:embed="rId3"/>
          <a:stretch/>
        </p:blipFill>
        <p:spPr>
          <a:xfrm>
            <a:off x="8169120" y="52560"/>
            <a:ext cx="876600" cy="8175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8"/>
          </p:nvPr>
        </p:nvSpPr>
        <p:spPr>
          <a:xfrm>
            <a:off x="5040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D1B0-53BF-4F8E-A00B-7FFF66BB92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Рисунок 4" descr=""/>
          <p:cNvPicPr/>
          <p:nvPr/>
        </p:nvPicPr>
        <p:blipFill>
          <a:blip r:embed="rId3"/>
          <a:stretch/>
        </p:blipFill>
        <p:spPr>
          <a:xfrm>
            <a:off x="8169120" y="52560"/>
            <a:ext cx="876600" cy="8175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9"/>
          </p:nvPr>
        </p:nvSpPr>
        <p:spPr>
          <a:xfrm>
            <a:off x="5040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D50E-05B9-4CB7-A44F-8715B2EE88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4" descr=""/>
          <p:cNvPicPr/>
          <p:nvPr/>
        </p:nvPicPr>
        <p:blipFill>
          <a:blip r:embed="rId3"/>
          <a:stretch/>
        </p:blipFill>
        <p:spPr>
          <a:xfrm>
            <a:off x="8169120" y="52560"/>
            <a:ext cx="876600" cy="8175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10"/>
          </p:nvPr>
        </p:nvSpPr>
        <p:spPr>
          <a:xfrm>
            <a:off x="5040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0223-A831-482C-8FCD-89CDDAF2D15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042480" cy="24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нализ ведения сайтов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дицинских организаций обла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360360" y="4834080"/>
            <a:ext cx="868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libri"/>
              </a:rPr>
              <a:t>Гордеева А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alibri"/>
              </a:rPr>
              <a:t>директор ГУЗ «МИА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Рисунок 1" descr=""/>
          <p:cNvPicPr/>
          <p:nvPr/>
        </p:nvPicPr>
        <p:blipFill>
          <a:blip r:embed="rId1"/>
          <a:stretch/>
        </p:blipFill>
        <p:spPr>
          <a:xfrm>
            <a:off x="187200" y="216000"/>
            <a:ext cx="1978200" cy="1846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26"/>
          <p:cNvSpPr/>
          <p:nvPr/>
        </p:nvSpPr>
        <p:spPr>
          <a:xfrm>
            <a:off x="0" y="230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сновной нормативный ак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1"/>
          <p:cNvSpPr/>
          <p:nvPr/>
        </p:nvSpPr>
        <p:spPr>
          <a:xfrm>
            <a:off x="204840" y="1050840"/>
            <a:ext cx="84661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иказ Минздрава Ро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т 30 декабря 2014 г. N 956н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Об информации, необходимой для проведения независимой оценки качества оказания услуг медицинскими организациями, и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требованиях к содержанию и форме предоставления информации о деятельности медицинских организаций, размещаемой на официальных сайтах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инистерства здравоохранения российской федерации, органов государственной власти субъектов российской федерации, органов местного самоуправления и медицинских организаций в информационно-телекоммуникационной сети "Интернет"»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Номер слайда 1"/>
          <p:cNvSpPr/>
          <p:nvPr/>
        </p:nvSpPr>
        <p:spPr>
          <a:xfrm>
            <a:off x="5076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08B9-41CF-49DF-B1A7-FB2E4193375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"/>
          <p:cNvSpPr/>
          <p:nvPr/>
        </p:nvSpPr>
        <p:spPr>
          <a:xfrm>
            <a:off x="0" y="1324080"/>
            <a:ext cx="882648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) о медицинской организаци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) об адресах и контактных телефонах учредителя и контрольных органов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) о СМ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4) о правах и обязанностях граждан в сфере охраны здоровь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) о медицинской деятельности медицинской организаци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6) о медицинских работниках медицинской организации, включая филиалы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7) о вакантных должностях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8) о перечне ЖНВЛП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9) о перечне лекарственных препаратов по утвержденным регистра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0) о перечне лекарственных препаратов для медицинского применен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1) о перечне лекарственных препаратов, отпускаемых льготной категории граждан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2) об отзывах потребителей услуг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3) иная информация, которая размещается, опубликовывается по решению учредителя и (или) руководителя медицинской организации и (или) размещение, опубликование которой являются обязательными в соответствии с законодательством Российской Федерац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"/>
          <p:cNvSpPr/>
          <p:nvPr/>
        </p:nvSpPr>
        <p:spPr>
          <a:xfrm>
            <a:off x="88920" y="254160"/>
            <a:ext cx="81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чень требуемой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Номер слайда 1"/>
          <p:cNvSpPr/>
          <p:nvPr/>
        </p:nvSpPr>
        <p:spPr>
          <a:xfrm>
            <a:off x="5076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062C-D651-4B19-9A9B-E7505FB1664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220680" y="1192320"/>
            <a:ext cx="8923320" cy="5208480"/>
          </a:xfrm>
          <a:prstGeom prst="rect">
            <a:avLst/>
          </a:prstGeom>
          <a:ln w="0">
            <a:noFill/>
          </a:ln>
        </p:spPr>
      </p:pic>
      <p:sp>
        <p:nvSpPr>
          <p:cNvPr id="563" name="TextBox 2"/>
          <p:cNvSpPr/>
          <p:nvPr/>
        </p:nvSpPr>
        <p:spPr>
          <a:xfrm>
            <a:off x="220680" y="139680"/>
            <a:ext cx="78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формация по ведению сайтов 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5"/>
          <p:cNvSpPr/>
          <p:nvPr/>
        </p:nvSpPr>
        <p:spPr>
          <a:xfrm>
            <a:off x="5473800" y="3073320"/>
            <a:ext cx="1968480" cy="2197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Номер слайда 1"/>
          <p:cNvSpPr/>
          <p:nvPr/>
        </p:nvSpPr>
        <p:spPr>
          <a:xfrm>
            <a:off x="5076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B72B-B23B-497A-9F6D-BEE2E78DCE9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90440" y="266760"/>
            <a:ext cx="75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формация по 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85680" y="1073160"/>
            <a:ext cx="7434360" cy="54500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3"/>
          <p:cNvSpPr/>
          <p:nvPr/>
        </p:nvSpPr>
        <p:spPr>
          <a:xfrm>
            <a:off x="0" y="4859280"/>
            <a:ext cx="1773360" cy="56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3" descr=""/>
          <p:cNvPicPr/>
          <p:nvPr/>
        </p:nvPicPr>
        <p:blipFill>
          <a:blip r:embed="rId2"/>
          <a:stretch/>
        </p:blipFill>
        <p:spPr>
          <a:xfrm>
            <a:off x="2857680" y="2727360"/>
            <a:ext cx="5829120" cy="4068720"/>
          </a:xfrm>
          <a:prstGeom prst="rect">
            <a:avLst/>
          </a:prstGeom>
          <a:ln w="15840">
            <a:solidFill>
              <a:srgbClr val="262673"/>
            </a:solidFill>
            <a:miter/>
          </a:ln>
        </p:spPr>
      </p:pic>
      <p:cxnSp>
        <p:nvCxnSpPr>
          <p:cNvPr id="570" name="Прямая со стрелкой 5"/>
          <p:cNvCxnSpPr/>
          <p:nvPr/>
        </p:nvCxnSpPr>
        <p:spPr>
          <a:xfrm flipV="1">
            <a:off x="1515960" y="4142520"/>
            <a:ext cx="2123280" cy="808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71" name="Овал 6"/>
          <p:cNvSpPr/>
          <p:nvPr/>
        </p:nvSpPr>
        <p:spPr>
          <a:xfrm>
            <a:off x="5440320" y="3432240"/>
            <a:ext cx="2827440" cy="3363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-360" y="15732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тная связь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5076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4CA1-E770-4CDD-9271-C8C0428599D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5" descr=""/>
          <p:cNvPicPr/>
          <p:nvPr/>
        </p:nvPicPr>
        <p:blipFill>
          <a:blip r:embed="rId1"/>
          <a:stretch/>
        </p:blipFill>
        <p:spPr>
          <a:xfrm>
            <a:off x="237960" y="1000080"/>
            <a:ext cx="7572600" cy="5702400"/>
          </a:xfrm>
          <a:prstGeom prst="rect">
            <a:avLst/>
          </a:prstGeom>
          <a:ln w="0">
            <a:noFill/>
          </a:ln>
        </p:spPr>
      </p:pic>
      <p:sp>
        <p:nvSpPr>
          <p:cNvPr id="575" name="Овал 6"/>
          <p:cNvSpPr/>
          <p:nvPr/>
        </p:nvSpPr>
        <p:spPr>
          <a:xfrm>
            <a:off x="5533920" y="3827520"/>
            <a:ext cx="2486160" cy="1681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66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. 14 приказа Минздрава РФ №24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1000080"/>
            <a:ext cx="69246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Письмо Минздрава РФ от 11 августа 2015 год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№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1-5/10/2-4554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5076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A875-9DD0-45EA-AA74-65ADD72E24C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5" descr=""/>
          <p:cNvPicPr/>
          <p:nvPr/>
        </p:nvPicPr>
        <p:blipFill>
          <a:blip r:embed="rId1"/>
          <a:stretch/>
        </p:blipFill>
        <p:spPr>
          <a:xfrm>
            <a:off x="1905120" y="1859040"/>
            <a:ext cx="7238880" cy="4806720"/>
          </a:xfrm>
          <a:prstGeom prst="rect">
            <a:avLst/>
          </a:prstGeom>
          <a:ln w="0">
            <a:noFill/>
          </a:ln>
        </p:spPr>
      </p:pic>
      <p:sp>
        <p:nvSpPr>
          <p:cNvPr id="580" name="Овал 5"/>
          <p:cNvSpPr/>
          <p:nvPr/>
        </p:nvSpPr>
        <p:spPr>
          <a:xfrm>
            <a:off x="6877080" y="4262400"/>
            <a:ext cx="2076480" cy="959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"/>
          <p:cNvPicPr/>
          <p:nvPr/>
        </p:nvPicPr>
        <p:blipFill>
          <a:blip r:embed="rId2"/>
          <a:stretch/>
        </p:blipFill>
        <p:spPr>
          <a:xfrm>
            <a:off x="152280" y="1809720"/>
            <a:ext cx="5162760" cy="4676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cxnSp>
        <p:nvCxnSpPr>
          <p:cNvPr id="582" name="Прямая со стрелкой 9"/>
          <p:cNvCxnSpPr>
            <a:stCxn id="580" idx="2"/>
          </p:cNvCxnSpPr>
          <p:nvPr/>
        </p:nvCxnSpPr>
        <p:spPr>
          <a:xfrm flipH="1" flipV="1">
            <a:off x="5257440" y="3837960"/>
            <a:ext cx="1620000" cy="903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86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тоги анкетирования пациентов МЗРФ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Саратовской обла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Объект 4" descr=""/>
          <p:cNvPicPr/>
          <p:nvPr/>
        </p:nvPicPr>
        <p:blipFill>
          <a:blip r:embed="rId1"/>
          <a:stretch/>
        </p:blipFill>
        <p:spPr>
          <a:xfrm>
            <a:off x="4897440" y="758880"/>
            <a:ext cx="2265480" cy="895320"/>
          </a:xfrm>
          <a:prstGeom prst="rect">
            <a:avLst/>
          </a:prstGeom>
          <a:ln w="0">
            <a:noFill/>
          </a:ln>
        </p:spPr>
      </p:pic>
      <p:sp>
        <p:nvSpPr>
          <p:cNvPr id="585" name="Номер слайда 3"/>
          <p:cNvSpPr/>
          <p:nvPr/>
        </p:nvSpPr>
        <p:spPr>
          <a:xfrm>
            <a:off x="5076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B960-E1D6-4A95-826C-7EBF413047B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100080" y="1832040"/>
          <a:ext cx="8281800" cy="4054320"/>
        </p:xfrm>
        <a:graphic>
          <a:graphicData uri="http://schemas.openxmlformats.org/drawingml/2006/table">
            <a:tbl>
              <a:tblPr/>
              <a:tblGrid>
                <a:gridCol w="3481200"/>
                <a:gridCol w="1067040"/>
                <a:gridCol w="1361880"/>
                <a:gridCol w="1028880"/>
                <a:gridCol w="1342800"/>
              </a:tblGrid>
              <a:tr h="413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 медицинской помощ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01.09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01.10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паци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паци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кетирование по амбулаторно-поликлинической помощ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кетирование по стационарной медицинской помощ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469800" y="1510920"/>
            <a:ext cx="7623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лагодарю за внимание!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Номер слайда 3"/>
          <p:cNvSpPr/>
          <p:nvPr/>
        </p:nvSpPr>
        <p:spPr>
          <a:xfrm>
            <a:off x="5076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36F9-673B-410E-A2F2-74A3BD2DD6B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Номер слайда 3"/>
          <p:cNvSpPr/>
          <p:nvPr/>
        </p:nvSpPr>
        <p:spPr>
          <a:xfrm>
            <a:off x="5076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649A-B288-4D97-81CF-16F196BFCE1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"/>
          <a:stretch/>
        </p:blipFill>
        <p:spPr>
          <a:xfrm>
            <a:off x="0" y="996840"/>
            <a:ext cx="9020160" cy="57866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2"/>
          <a:srcRect l="65835" t="35927" r="6667" b="15741"/>
          <a:stretch/>
        </p:blipFill>
        <p:spPr>
          <a:xfrm>
            <a:off x="4861080" y="4218120"/>
            <a:ext cx="2092320" cy="2068560"/>
          </a:xfrm>
          <a:prstGeom prst="rect">
            <a:avLst/>
          </a:prstGeom>
          <a:ln w="0">
            <a:noFill/>
          </a:ln>
        </p:spPr>
      </p:pic>
      <p:sp>
        <p:nvSpPr>
          <p:cNvPr id="533" name="TextBox 5"/>
          <p:cNvSpPr/>
          <p:nvPr/>
        </p:nvSpPr>
        <p:spPr>
          <a:xfrm>
            <a:off x="380880" y="209520"/>
            <a:ext cx="72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йты медицинских орган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Номер слайда 3"/>
          <p:cNvSpPr/>
          <p:nvPr/>
        </p:nvSpPr>
        <p:spPr>
          <a:xfrm>
            <a:off x="5076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D074-4968-46AA-B466-62F190A6D56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5"/>
          <p:cNvSpPr/>
          <p:nvPr/>
        </p:nvSpPr>
        <p:spPr>
          <a:xfrm>
            <a:off x="380880" y="209520"/>
            <a:ext cx="72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ика оценки сайтов 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6" descr=""/>
          <p:cNvPicPr/>
          <p:nvPr/>
        </p:nvPicPr>
        <p:blipFill>
          <a:blip r:embed="rId1"/>
          <a:stretch/>
        </p:blipFill>
        <p:spPr>
          <a:xfrm>
            <a:off x="0" y="733320"/>
            <a:ext cx="6343560" cy="416412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pic>
        <p:nvPicPr>
          <p:cNvPr id="537" name="Picture 7" descr=""/>
          <p:cNvPicPr/>
          <p:nvPr/>
        </p:nvPicPr>
        <p:blipFill>
          <a:blip r:embed="rId2"/>
          <a:srcRect l="25392" t="22362" r="20703" b="6943"/>
          <a:stretch/>
        </p:blipFill>
        <p:spPr>
          <a:xfrm>
            <a:off x="4467240" y="3446640"/>
            <a:ext cx="4533840" cy="334476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Номер слайда 1"/>
          <p:cNvSpPr/>
          <p:nvPr/>
        </p:nvSpPr>
        <p:spPr>
          <a:xfrm>
            <a:off x="5076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DAF7-F069-4B49-9DA2-A92035F2E33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2"/>
          <p:cNvSpPr/>
          <p:nvPr/>
        </p:nvSpPr>
        <p:spPr>
          <a:xfrm>
            <a:off x="85680" y="38160"/>
            <a:ext cx="80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недостатки по размещению информации в следующих раздел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4"/>
          <p:cNvSpPr/>
          <p:nvPr/>
        </p:nvSpPr>
        <p:spPr>
          <a:xfrm>
            <a:off x="209520" y="1560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правилах внутреннего распорядка в учреж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 адресах и контактных телефонах органов исполнительной в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правах и обязанностях пациентов в сфере охраны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правилах записи на первичный приём консультацию, обслед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правилах подготовки к диагностическим исследовани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правилах предоставления платных медицински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учшие сайты медицинских организаци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5076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149D-AFAA-4E01-AE44-98187EB8F70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2"/>
          <p:cNvSpPr/>
          <p:nvPr/>
        </p:nvSpPr>
        <p:spPr>
          <a:xfrm>
            <a:off x="200160" y="1495440"/>
            <a:ext cx="8076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вый уровень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2 медицинских организаци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СО «Городская поликлиника № 2 г. Балаков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УЗ СО «Вольская стоматологическая поликли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Энгельсская городская детская поликлиника  № 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УЗ  «Энгельсская городская стоматологическая поликли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Саратовская городская поликлиника № 1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Саратовская городская поликлиника № 1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Саратовская городская поликлиника № 2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Саратовская городская детская поликлиника  № 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Саратовская стоматологическая поликлиника № 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СО «Петровская РБ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СО «Медико-санитарная часть городского округа ЗАТО Светл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Саратовский областной центр медицинской профилакт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учшие сайты медицинских организаци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5076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011F-F7B7-4F9B-80A2-BA92077EB50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2"/>
          <p:cNvSpPr/>
          <p:nvPr/>
        </p:nvSpPr>
        <p:spPr>
          <a:xfrm>
            <a:off x="133200" y="1457280"/>
            <a:ext cx="8696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торой уровень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6 медицинских организаци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СО «Балаковский перинатальный цент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СО «Детская городская больница г.Балаков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СО «Балашовская детская боль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Саратовская городская клиническая больница № 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Саратовская городская клиническая больница № 1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Энгельcский противотуберкулезный диспансер» МЗ 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етий уровен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(6 медицинских организаци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Областная клиническая боль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Саратовский областной кожно-венерологический диспанс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Саратовская городская клиническая больница № 1 им.Ю.Я.Гордее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Саратовская городская клиническая больница № 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УЗ  «Энгельсский перинатальный цент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Саратовская городская клиническая больница № 9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ходима доработка сайт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5076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9719-0095-4AE4-B827-EF5844B9FD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2"/>
          <p:cNvSpPr/>
          <p:nvPr/>
        </p:nvSpPr>
        <p:spPr>
          <a:xfrm>
            <a:off x="0" y="1447920"/>
            <a:ext cx="8791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в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СО «Ивантеевская РБ»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16,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СО «Хвалынская РБ имени Бржозовского»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СО «Питерская РБ»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торо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Саратовская городская детская больница № 7»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23,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Энгельсская психиатрическая больница» МЗ С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Вольский межрайонный психоневрологический диспансер»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Областной клинический центр комбустиологии»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25,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Противотуберкулезный диспансер Ленин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аратова»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24,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З «Областная клиническая туберкулезная больница»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6960" y="171000"/>
            <a:ext cx="898668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УЗ СО «Питерская РБ»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65040" y="1066680"/>
            <a:ext cx="762336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1) Отсутствует схема проезда до МО.</a:t>
            </a:r>
            <a:endParaRPr b="1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2) Отсутствует информация по транспортной доступности.</a:t>
            </a:r>
            <a:endParaRPr b="1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3) Отсутствует информация о контактах контролирующих организаций.</a:t>
            </a:r>
            <a:endParaRPr b="1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4) Не полная информация о правах и обязанностях граждан в сфере охраны здоровья </a:t>
            </a:r>
            <a:endParaRPr b="1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5) Отсутствует информация о контактах контролирующих организаций.</a:t>
            </a:r>
            <a:endParaRPr b="1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6) Отсутствует информация о правилах записи на первичный прием, консультацию, обследование.</a:t>
            </a:r>
            <a:endParaRPr b="1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7) Отсутствует информация о сроках, порядке, результатах проводимой диспансеризации населения в медицинских организациях, оказывающих первичную медико-санитарную помощь и имеющих прикрепленное население.</a:t>
            </a:r>
            <a:endParaRPr b="1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8) Отсутствует информация о правилах госпитализации (сроки и документы)</a:t>
            </a:r>
            <a:endParaRPr b="1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9) Отсутствует график приема граждан руководителем и иными уполномоченными лицами медицинской организации  </a:t>
            </a:r>
            <a:endParaRPr b="1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10) Отсутствует информации о медицинских работниках медицинской организации (об уровне их образования и об их квалификации)</a:t>
            </a:r>
            <a:endParaRPr b="1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11) Отсутствует информация о вакансиях медицинской организации.</a:t>
            </a:r>
            <a:endParaRPr b="1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5076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BE73-96CF-43BB-A917-759431BAAD6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Номер слайда 1"/>
          <p:cNvSpPr/>
          <p:nvPr/>
        </p:nvSpPr>
        <p:spPr>
          <a:xfrm>
            <a:off x="50760" y="6588000"/>
            <a:ext cx="2133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2239-722E-45DE-AA2A-8E333CFC9D5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"/>
          <p:cNvSpPr/>
          <p:nvPr/>
        </p:nvSpPr>
        <p:spPr>
          <a:xfrm>
            <a:off x="114480" y="266760"/>
            <a:ext cx="86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ценка сайтов медорганизаций в рамках 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14480" y="1628640"/>
          <a:ext cx="8673840" cy="4784760"/>
        </p:xfrm>
        <a:graphic>
          <a:graphicData uri="http://schemas.openxmlformats.org/drawingml/2006/table">
            <a:tbl>
              <a:tblPr/>
              <a:tblGrid>
                <a:gridCol w="4336920"/>
                <a:gridCol w="433692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учреждений социальной сф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медицинских организ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6 Федеральный зак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нистерство труда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нистерство здравоохранения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аз Минтруда России от 10 июня 2013 года №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аз Минздрава Росс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4 мая 2015 года №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40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нистерство занятости, труда и миграции об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нистерство здравоохранения об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ановление Правительства обла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30 декабря 2013 года №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64 - 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аз МЗ СО №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от 24 марта 2015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енный совет при Правительстве об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енный совет при министерстве здравоохранения об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08:25:05Z</dcterms:created>
  <dc:creator>Вековшинина Светлана</dc:creator>
  <dc:description/>
  <dc:language>en-US</dc:language>
  <cp:lastModifiedBy>Гордеева Анна</cp:lastModifiedBy>
  <cp:lastPrinted>2015-08-04T16:01:22Z</cp:lastPrinted>
  <dcterms:modified xsi:type="dcterms:W3CDTF">2015-10-23T10:06:31Z</dcterms:modified>
  <cp:revision>746</cp:revision>
  <dc:subject/>
  <dc:title>Презентация PowerPoint</dc:title>
</cp:coreProperties>
</file>